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C4E-ED65-43E2-B926-A3F03C96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B20-C917-4C64-B676-A2BEDDBB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CA12-AF4C-408A-B79A-BDBD9311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F14-005E-4957-85C6-A838C79F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20E0-F611-4B2F-B170-1D1CE693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BA99-FBA8-4BAA-AB06-037A6A4A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F4B5-D300-4809-9921-1B7DF2BB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EF9C-0798-45BE-8EAC-01410005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4A61-1EEC-4BCE-9D6D-E9445495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20D-4D9A-4EF5-866B-784FEB45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3B2-06CF-4333-995F-F125C595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345A-F032-46A1-BD81-3A97B3FC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422D-3EAF-49D4-A168-FB3793B8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CA34-C076-488C-B615-9FB4091B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847C-6DBE-4ADD-B134-7D9221B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F4A8-69CB-4659-846E-A77245F9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7653-15C0-46E7-B015-87CDC701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A37-6806-4EA8-B2D0-7525EC7E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D75-77E6-45CC-BC7A-13FD6A99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DB2-A09D-4F67-A57C-2A0026A3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1C6-BDD9-4B2D-9D37-1158DEA3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CB3-1237-4A5A-817C-58192B21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CEC-AB12-4716-A010-58E0F30B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BF2C-353B-4860-86EA-A259809C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DE80-4A67-4F3F-B25B-98AFC46E854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1950-E7E6-45BD-8267-C503C62DAD4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gradFill rotWithShape="0">
            <a:gsLst>
              <a:gs pos="0">
                <a:srgbClr val="616260"/>
              </a:gs>
              <a:gs pos="50000">
                <a:srgbClr val="d4d5d1"/>
              </a:gs>
              <a:gs pos="100000">
                <a:srgbClr val="61626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電子噴射車專家養成班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35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歐美日噴射系剖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汽車人電機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電路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如何診斷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處理毛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示波器量測與判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08440" y="1795320"/>
            <a:ext cx="336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1828800"/>
            <a:ext cx="3597120" cy="4452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000000"/>
                </a:solidFill>
                <a:latin typeface="Times New Roman"/>
              </a:rPr>
              <a:t>您有危機意識嗎</a:t>
            </a:r>
            <a:r>
              <a:rPr b="1" i="1" lang="zh-TW" sz="2800" spc="-1" strike="noStrike">
                <a:solidFill>
                  <a:srgbClr val="000000"/>
                </a:solidFill>
                <a:latin typeface="Times New Roman"/>
              </a:rPr>
              <a:t>?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電控系統越來越複雜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晶片防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BUS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網路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電腦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oding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設定…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買不完的書籍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儀器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課程…還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不會查毛病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無法讀故障碼或對調電腦怎辦</a:t>
            </a: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TN00332_" descr=""/>
          <p:cNvPicPr/>
          <p:nvPr/>
        </p:nvPicPr>
        <p:blipFill>
          <a:blip r:embed="rId1"/>
          <a:stretch/>
        </p:blipFill>
        <p:spPr>
          <a:xfrm>
            <a:off x="5334120" y="4876920"/>
            <a:ext cx="2293920" cy="1139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89680" y="5529240"/>
            <a:ext cx="29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5105520"/>
            <a:ext cx="27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新細明體"/>
              </a:rPr>
              <a:t>六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主題一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TW" sz="4800" spc="-1" strike="noStrike">
                <a:solidFill>
                  <a:srgbClr val="000000"/>
                </a:solidFill>
                <a:latin typeface="Times New Roman"/>
              </a:rPr>
              <a:t>歐美日噴射系剖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輸入元件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空氣流量計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AFM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水溫感知器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ECT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節汽門位置感知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T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曲軸位置信號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Td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含氧感知器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O2)……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原理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例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線路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數據量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輸出元件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點火模組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EZL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噴油嘴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injector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速控制閥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IAC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活性碳罐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EEC)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廢氣再循環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EGR)……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原理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例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線路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數據量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歐美日噴射系統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單點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多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;Bosch,Honda/PGM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FI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福特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EEC-IV….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說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您知道怠速控制器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2/3/4/6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線的差異在哪嗎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怎麼判斷前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好壞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車實物與彩色位置圖片說明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包含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Nissan,Ford,Honda,Mitsubishi,Toyota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IN00561_" descr=""/>
          <p:cNvPicPr/>
          <p:nvPr/>
        </p:nvPicPr>
        <p:blipFill>
          <a:blip r:embed="rId1"/>
          <a:stretch/>
        </p:blipFill>
        <p:spPr>
          <a:xfrm>
            <a:off x="5249880" y="1905120"/>
            <a:ext cx="327672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14800" y="5257800"/>
            <a:ext cx="4648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數百種車</a:t>
            </a: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但其感知器</a:t>
            </a: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作動元件原理</a:t>
            </a: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TW" sz="1400" spc="-1" strike="noStrike">
                <a:solidFill>
                  <a:srgbClr val="000000"/>
                </a:solidFill>
                <a:latin typeface="Times New Roman"/>
              </a:rPr>
              <a:t>數據均逃不出此課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777777"/>
          </a:solidFill>
          <a:ln w="0">
            <a:noFill/>
          </a:ln>
          <a:effectLst>
            <a:outerShdw dist="107932" dir="189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主題二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汽車人電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機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電路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25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三用電表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數位電錶使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教您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阻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流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壓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二極體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LED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電晶體…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等電子常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如何增加噴油量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如何使冷卻風扇早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如何抓漏電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抓”假電”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如何修電腦盒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頻率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(Hz)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週期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(ms)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作用循環比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(%)…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示波器的使用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常見的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種感知器波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600" spc="-1" strike="noStrike" u="sng">
                <a:solidFill>
                  <a:srgbClr val="000000"/>
                </a:solidFill>
                <a:uFillTx/>
                <a:latin typeface="Times New Roman"/>
              </a:rPr>
              <a:t>教您看懂各類線路圖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IN00357_" descr=""/>
          <p:cNvPicPr/>
          <p:nvPr/>
        </p:nvPicPr>
        <p:blipFill>
          <a:blip r:embed="rId1"/>
          <a:stretch/>
        </p:blipFill>
        <p:spPr>
          <a:xfrm>
            <a:off x="5699160" y="2590920"/>
            <a:ext cx="2987640" cy="3209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5410080"/>
            <a:ext cx="40006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1600" spc="-1" strike="noStrike">
                <a:solidFill>
                  <a:srgbClr val="000000"/>
                </a:solidFill>
                <a:latin typeface="Times New Roman"/>
              </a:rPr>
              <a:t>教您修電腦盒</a:t>
            </a:r>
            <a:r>
              <a:rPr b="1" i="1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TW" sz="1600" spc="-1" strike="noStrike">
                <a:solidFill>
                  <a:srgbClr val="000000"/>
                </a:solidFill>
                <a:latin typeface="Times New Roman"/>
              </a:rPr>
              <a:t>分析電路</a:t>
            </a:r>
            <a:r>
              <a:rPr b="1" i="1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TW" sz="1600" spc="-1" strike="noStrike">
                <a:solidFill>
                  <a:srgbClr val="000000"/>
                </a:solidFill>
                <a:latin typeface="Times New Roman"/>
              </a:rPr>
              <a:t>抓偶發性毛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777777"/>
          </a:solidFill>
          <a:ln w="9360">
            <a:solidFill>
              <a:srgbClr val="777777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主題三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如何診斷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處理毛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45579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怎麼抓毛病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無法起動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(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冷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熱車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難發動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怠速不順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加速無力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熄火…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問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教您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用真空錶查漏氣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觸媒堵塞問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CO/HC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錶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O2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信號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油壓…分析油路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混合比問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如何研判點火問題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如何看懂跳火波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400" spc="-1" strike="noStrike" u="sng">
                <a:solidFill>
                  <a:srgbClr val="000000"/>
                </a:solidFill>
                <a:uFillTx/>
                <a:latin typeface="Times New Roman"/>
              </a:rPr>
              <a:t>何謂</a:t>
            </a:r>
            <a:r>
              <a:rPr b="0" lang="zh-TW" sz="1400" spc="-1" strike="noStrike" u="sng">
                <a:solidFill>
                  <a:srgbClr val="000000"/>
                </a:solidFill>
                <a:uFillTx/>
                <a:latin typeface="Times New Roman"/>
              </a:rPr>
              <a:t>OBDII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原廠儀器有何能耐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為何可叫故障碼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又為何讀不出或消不掉故障碼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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送您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種以上車型的故障碼讀法與對照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E02002_" descr=""/>
          <p:cNvPicPr/>
          <p:nvPr/>
        </p:nvPicPr>
        <p:blipFill>
          <a:blip r:embed="rId1"/>
          <a:stretch/>
        </p:blipFill>
        <p:spPr>
          <a:xfrm>
            <a:off x="6221520" y="2286000"/>
            <a:ext cx="2390760" cy="2441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5486400"/>
            <a:ext cx="6095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機械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油路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電路…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.;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無故障碼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偶發性毛病處理研討</a:t>
            </a:r>
            <a:r>
              <a:rPr b="1" i="1" lang="zh-TW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solidFill>
            <a:srgbClr val="777777"/>
          </a:solidFill>
          <a:ln w="0">
            <a:noFill/>
          </a:ln>
          <a:effectLst>
            <a:outerShdw dist="107932" dir="189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主題四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TW" sz="4800" spc="-1" strike="noStrike">
                <a:solidFill>
                  <a:srgbClr val="000000"/>
                </a:solidFill>
                <a:latin typeface="Times New Roman"/>
              </a:rPr>
              <a:t>示波器量測與判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空氣流量計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FM.MAF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音頻式…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進氣歧管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大氣壓力計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MAP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Barometer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溫度感知器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CTS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ECT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IAT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MAT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EGR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溫度感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曲軸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凸輪軸位置感知器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CAS(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含磁電式、霍耳式、光電式、威根式…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節汽門位置感知器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TPS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或油門行程感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含氧感知器：前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後二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三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四線式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電壓或電阻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怠速馬達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線穩定閥、ˋ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4/6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線步進馬達式控制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噴油嘴、點火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二次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波形、爆震感知器…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廢氣控制系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EGR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EEC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IS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發電機控制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定速馬達控制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BS/TCS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車速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轉速信號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交流、數位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速控方向盤、轉向角度信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空氣懸吊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車身水平：加速感知、高度感知、壓力感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電子變速箱輸入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出軸轉速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TF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溫度、檔位、調壓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換檔閥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密碼晶片鑰匙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防盜器波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DAS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EWS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PASST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電腦資料匯流波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TxD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RxD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BUS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CCD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故障碼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車身電腦網路數位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紅外線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無線電接收觀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倒車雷達波檢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◎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座椅、電動窗位置或霍爾感知器信號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室內外、蒸發器溫度感知，冷媒壓力、陽光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雨滴感應、壓縮機轉速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S00580_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3146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講師介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學歷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碩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經歷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汽車百科雜誌作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BMW/BENZ AG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訓練工程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宏碁“引擎診斷光碟”開發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泰能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世勝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健麟…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汽修顧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:peter@ms1.cityland.com.t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位多年來竟日浸淫在汽車科技的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術愛好者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誠摯的與您分享歐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美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日近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種車輛的量測經驗與逾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個感知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波形抓取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判讀的心得…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S00554_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7339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04:16:10Z</dcterms:created>
  <dc:creator>peter</dc:creator>
  <dc:description/>
  <dc:language>en-US</dc:language>
  <cp:lastModifiedBy>peter</cp:lastModifiedBy>
  <dcterms:modified xsi:type="dcterms:W3CDTF">2002-08-02T16:00:59Z</dcterms:modified>
  <cp:revision>23</cp:revision>
  <dc:subject/>
  <dc:title>電子噴射車精修班 (四天)</dc:title>
</cp:coreProperties>
</file>