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6.jpeg" ContentType="image/jpeg"/>
  <Override PartName="/ppt/media/image8.wmf" ContentType="image/x-wmf"/>
  <Override PartName="/ppt/media/image13.png" ContentType="image/pn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DA1B-15AC-4226-B57A-1291234B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C560-635B-4BB3-A1A5-109DAB0E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774-061E-4100-A6F7-E0E44BB5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08A-226E-4B88-82AF-E6680F845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5B1D-E3C8-4063-8656-1ECBD62E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635D-E6C3-4A81-BE0D-5EACB511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4D94-0EF4-480E-8A95-196B7E23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0850-DE9E-4ADC-A345-96DABE01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061E-22B6-4B9D-A276-4C192EFE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5650-31CE-4BD3-8819-6FB3A71F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A219-4FF2-40AC-8526-AABA4E2F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AF7-D200-413F-B1B6-D282A993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83B4-09B8-4575-8B26-1C37B3E0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1036-6E31-4C6B-BB4C-A50F0BB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695A-2814-4438-BAD3-44EED135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9579-F831-45F4-8269-2BDCC805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4764-7905-4D37-A522-41E5D74B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9EC2-1CAD-4400-B524-41F7406F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D91-8B84-42E1-A5BB-C4205171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378-023A-4CDA-9EF1-0F8C90A5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8F0-51D8-42CD-A1AD-599987E5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8D6-E028-4E62-9509-659379A4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138-6B65-4C6B-888C-91768B26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8F9-42DD-4217-8551-E8C8CEAC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7DDB-917F-4EF7-A27B-F3EBD6E5DF0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D259-8E73-4534-A296-0E31DC8260E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whirlpool.com/index.html" TargetMode="Externa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lowes.com/lkn?action=home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whirlpool_awm8103" descr=""/>
          <p:cNvPicPr/>
          <p:nvPr/>
        </p:nvPicPr>
        <p:blipFill>
          <a:blip r:embed="rId1"/>
          <a:stretch/>
        </p:blipFill>
        <p:spPr>
          <a:xfrm>
            <a:off x="6324480" y="3962520"/>
            <a:ext cx="2492640" cy="2685960"/>
          </a:xfrm>
          <a:prstGeom prst="rect">
            <a:avLst/>
          </a:prstGeom>
          <a:ln w="0">
            <a:noFill/>
          </a:ln>
        </p:spPr>
      </p:pic>
      <p:pic>
        <p:nvPicPr>
          <p:cNvPr id="209" name="whirlpool_logo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4419360" cy="25016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26400" y="1828800"/>
            <a:ext cx="632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Final Consulting Report</a:t>
            </a:r>
            <a:endParaRPr b="0" lang="en-US" sz="4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Market Share Breakdow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769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050"/>
                </a:solidFill>
                <a:latin typeface="Tahoma"/>
              </a:rPr>
              <a:t>Home Appliance Manufacturers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Segmentation and Position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irlpo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nmo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itchenAi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 Appli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G Appli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rigidai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yta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Benchmarking Stud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christine_manuf_1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523120" cy="47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Benchmarking Study Summar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3" name="christine_manuf_2" descr=""/>
          <p:cNvPicPr/>
          <p:nvPr/>
        </p:nvPicPr>
        <p:blipFill>
          <a:blip r:embed="rId1"/>
          <a:stretch/>
        </p:blipFill>
        <p:spPr>
          <a:xfrm>
            <a:off x="1547640" y="1685880"/>
            <a:ext cx="60469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Recommendations for Whirlpoo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onalized search metho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vide more product pictur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ider login capabiliti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Whirlpool Logo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9920" y="4724280"/>
            <a:ext cx="19047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Recommendations for KitchenAid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ider lifestyle-based ques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ditional information on product innova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ider moving promotion inform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9" name="" descr="KitchenAid®"/>
          <p:cNvPicPr/>
          <p:nvPr/>
        </p:nvPicPr>
        <p:blipFill>
          <a:blip r:embed="rId4"/>
          <a:stretch/>
        </p:blipFill>
        <p:spPr>
          <a:xfrm>
            <a:off x="6248520" y="4495680"/>
            <a:ext cx="182880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Recommendations for Kenmor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anking criteria based on price or op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nsistent web design with Sea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ffer Q &amp; A section on websit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5638680" y="5105520"/>
            <a:ext cx="2210040" cy="4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050"/>
                </a:solidFill>
                <a:latin typeface="Tahoma"/>
              </a:rPr>
              <a:t>Retail Channel Websites</a:t>
            </a:r>
            <a:endParaRPr b="0" lang="en-US" sz="4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Segmentation and Position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BT Electronic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Best Bu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stc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H Greg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ome Depo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we’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a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What You Will Hear Tod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blem Definition/Project Scope - A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ndustry/Competitive Analysis - Rya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nufacturers - Christin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hannels – Juli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neral Recommendations- A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Benchmarking Stud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8" name="julie_channel_1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401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Benchmarking Study Summar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0" name="julie_channel_2" descr=""/>
          <p:cNvPicPr/>
          <p:nvPr/>
        </p:nvPicPr>
        <p:blipFill>
          <a:blip r:embed="rId1"/>
          <a:stretch/>
        </p:blipFill>
        <p:spPr>
          <a:xfrm>
            <a:off x="1560600" y="1792440"/>
            <a:ext cx="6022800" cy="32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5050"/>
                </a:solidFill>
                <a:latin typeface="Tahoma"/>
              </a:rPr>
              <a:t>Selected Recommendations for Lowe’s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oom and angle product 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anded product selection to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Improved feature compariso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Lowe's Home Improvement Warehous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4724280"/>
            <a:ext cx="1904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5050"/>
                </a:solidFill>
                <a:latin typeface="Tahoma"/>
              </a:rPr>
              <a:t>Selected Recommendations for Sears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ganized product specification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wnloadable rebate form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Live customer help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6477120" y="50292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General Recommenda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mote brand with consistent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o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e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xper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isual Standard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herent message to consum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981080" y="2577960"/>
            <a:ext cx="579132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How Whirlpool Measures U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Home appliances research and the internet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Does website serve its purpose?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Website=target market?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Channel partners= target market?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51"/>
              </a:spcBef>
              <a:buSzPct val="1207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Whirlpool vs. Competitors’ website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219320" y="1095480"/>
            <a:ext cx="6705360" cy="4848120"/>
          </a:xfrm>
          <a:prstGeom prst="ellipse">
            <a:avLst/>
          </a:prstGeom>
          <a:solidFill>
            <a:srgbClr val="ccecff"/>
          </a:solidFill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43520" y="293760"/>
            <a:ext cx="275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Out of Scop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625920" y="1249200"/>
            <a:ext cx="189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ahoma"/>
              </a:rPr>
              <a:t>In Scop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378080" y="2209680"/>
            <a:ext cx="6305400" cy="3323880"/>
            <a:chOff x="1378080" y="2209680"/>
            <a:chExt cx="6305400" cy="3323880"/>
          </a:xfrm>
        </p:grpSpPr>
        <p:sp>
          <p:nvSpPr>
            <p:cNvPr id="219" name=""/>
            <p:cNvSpPr/>
            <p:nvPr/>
          </p:nvSpPr>
          <p:spPr>
            <a:xfrm>
              <a:off x="1757880" y="2362320"/>
              <a:ext cx="252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Manufacturers &amp; channel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website benchmark/SWOT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82320" y="2209680"/>
              <a:ext cx="2349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Ease of customer websit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navigation 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78080" y="3429000"/>
              <a:ext cx="3073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Product positioning relative to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competition/branded impression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38400" y="441972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Customer service analysi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85960" y="4952880"/>
              <a:ext cx="271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Consumer product educati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and appropriate content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81600" y="3352680"/>
              <a:ext cx="2801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Recommendations for change 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improvement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13320" y="4267080"/>
              <a:ext cx="123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a0b16"/>
                  </a:solidFill>
                  <a:latin typeface="Times New Roman"/>
                </a:rPr>
                <a:t>Web design 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80160" y="762120"/>
            <a:ext cx="8034120" cy="5321160"/>
            <a:chOff x="380160" y="762120"/>
            <a:chExt cx="8034120" cy="5321160"/>
          </a:xfrm>
        </p:grpSpPr>
        <p:sp>
          <p:nvSpPr>
            <p:cNvPr id="227" name=""/>
            <p:cNvSpPr/>
            <p:nvPr/>
          </p:nvSpPr>
          <p:spPr>
            <a:xfrm>
              <a:off x="380160" y="762120"/>
              <a:ext cx="280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Companies outside provided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manufacturer &amp; channel list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9840" y="563868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B2B relations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54520" y="5715000"/>
              <a:ext cx="172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Non-US markets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4120" y="990720"/>
              <a:ext cx="20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58c"/>
                  </a:solidFill>
                  <a:latin typeface="Times New Roman"/>
                </a:rPr>
                <a:t>Product line analysis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Industry and Market Analy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General Market Characterist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White box” appliances are a mature market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Demand has shifted away from mid-priced model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Manufacturer is gaining communication opportunities with their end consumer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58c"/>
                </a:solidFill>
                <a:latin typeface="Tahoma"/>
              </a:rPr>
              <a:t>Marketing Partnerships exist between manufacturers and retailer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Supply Chain for New Applianc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 classic “pull” model of demand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2341440" y="2886480"/>
            <a:ext cx="4461840" cy="2949120"/>
            <a:chOff x="2341440" y="2886480"/>
            <a:chExt cx="4461840" cy="2949120"/>
          </a:xfrm>
        </p:grpSpPr>
        <p:cxnSp>
          <p:nvCxnSpPr>
            <p:cNvPr id="237" name="_s5167"/>
            <p:cNvCxnSpPr>
              <a:stCxn id="238" idx="0"/>
              <a:endCxn id="239" idx="2"/>
            </p:cNvCxnSpPr>
            <p:nvPr/>
          </p:nvCxnSpPr>
          <p:spPr>
            <a:xfrm flipV="1" rot="16200000">
              <a:off x="4956840" y="4281120"/>
              <a:ext cx="390240" cy="116100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40458c"/>
              </a:solidFill>
              <a:miter/>
            </a:ln>
          </p:spPr>
        </p:cxnSp>
        <p:cxnSp>
          <p:nvCxnSpPr>
            <p:cNvPr id="240" name="_s5161"/>
            <p:cNvCxnSpPr>
              <a:stCxn id="241" idx="0"/>
              <a:endCxn id="239" idx="2"/>
            </p:cNvCxnSpPr>
            <p:nvPr/>
          </p:nvCxnSpPr>
          <p:spPr>
            <a:xfrm flipH="1" flipV="1" rot="5400000">
              <a:off x="3797640" y="4282200"/>
              <a:ext cx="390240" cy="115920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40458c"/>
              </a:solidFill>
              <a:miter/>
            </a:ln>
          </p:spPr>
        </p:cxnSp>
        <p:cxnSp>
          <p:nvCxnSpPr>
            <p:cNvPr id="242" name="_s5156"/>
            <p:cNvCxnSpPr>
              <a:stCxn id="239" idx="0"/>
              <a:endCxn id="243" idx="2"/>
            </p:cNvCxnSpPr>
            <p:nvPr/>
          </p:nvCxnSpPr>
          <p:spPr>
            <a:xfrm flipH="1" flipV="1" rot="5400000">
              <a:off x="4378320" y="3774960"/>
              <a:ext cx="390240" cy="3600"/>
            </a:xfrm>
            <a:prstGeom prst="bentConnector3">
              <a:avLst>
                <a:gd name="adj1" fmla="val 49953"/>
              </a:avLst>
            </a:prstGeom>
            <a:ln w="28440">
              <a:solidFill>
                <a:srgbClr val="40458c"/>
              </a:solidFill>
              <a:miter/>
            </a:ln>
          </p:spPr>
        </p:cxnSp>
        <p:sp>
          <p:nvSpPr>
            <p:cNvPr id="243" name="_s5152"/>
            <p:cNvSpPr/>
            <p:nvPr/>
          </p:nvSpPr>
          <p:spPr>
            <a:xfrm>
              <a:off x="3959640" y="2886480"/>
              <a:ext cx="1225080" cy="69516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Manufacture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9" name="_s5153"/>
            <p:cNvSpPr/>
            <p:nvPr/>
          </p:nvSpPr>
          <p:spPr>
            <a:xfrm>
              <a:off x="3400560" y="3971880"/>
              <a:ext cx="2343600" cy="69516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Independent Distributor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1" name="_s5160"/>
            <p:cNvSpPr/>
            <p:nvPr/>
          </p:nvSpPr>
          <p:spPr>
            <a:xfrm>
              <a:off x="2341440" y="5056920"/>
              <a:ext cx="2142720" cy="77868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Independent Retailer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_s5166"/>
            <p:cNvSpPr/>
            <p:nvPr/>
          </p:nvSpPr>
          <p:spPr>
            <a:xfrm>
              <a:off x="4660560" y="5056920"/>
              <a:ext cx="2142720" cy="77868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Chain Retailer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050"/>
                </a:solidFill>
                <a:latin typeface="Tahoma"/>
              </a:rPr>
              <a:t>Supply Chain for New Applianc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-commerce does not significantly affect this chann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42560" y="3098880"/>
            <a:ext cx="7096320" cy="3087000"/>
            <a:chOff x="1042560" y="3098880"/>
            <a:chExt cx="7096320" cy="3087000"/>
          </a:xfrm>
        </p:grpSpPr>
        <p:cxnSp>
          <p:nvCxnSpPr>
            <p:cNvPr id="247" name="_s8207"/>
            <p:cNvCxnSpPr>
              <a:stCxn id="248" idx="0"/>
              <a:endCxn id="249" idx="2"/>
            </p:cNvCxnSpPr>
            <p:nvPr/>
          </p:nvCxnSpPr>
          <p:spPr>
            <a:xfrm flipV="1" rot="16200000">
              <a:off x="5600520" y="3952080"/>
              <a:ext cx="408600" cy="2428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0458c"/>
              </a:solidFill>
              <a:miter/>
            </a:ln>
          </p:spPr>
        </p:cxnSp>
        <p:cxnSp>
          <p:nvCxnSpPr>
            <p:cNvPr id="250" name="_s8198"/>
            <p:cNvCxnSpPr>
              <a:stCxn id="251" idx="0"/>
              <a:endCxn id="249" idx="2"/>
            </p:cNvCxnSpPr>
            <p:nvPr/>
          </p:nvCxnSpPr>
          <p:spPr>
            <a:xfrm flipV="1" rot="16200000">
              <a:off x="4388040" y="5164560"/>
              <a:ext cx="408600" cy="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0458c"/>
              </a:solidFill>
              <a:miter/>
            </a:ln>
          </p:spPr>
        </p:cxnSp>
        <p:cxnSp>
          <p:nvCxnSpPr>
            <p:cNvPr id="252" name="_s8199"/>
            <p:cNvCxnSpPr>
              <a:stCxn id="253" idx="0"/>
              <a:endCxn id="249" idx="2"/>
            </p:cNvCxnSpPr>
            <p:nvPr/>
          </p:nvCxnSpPr>
          <p:spPr>
            <a:xfrm flipH="1" flipV="1" rot="5400000">
              <a:off x="3173760" y="3952800"/>
              <a:ext cx="408600" cy="2427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0458c"/>
              </a:solidFill>
              <a:miter/>
            </a:ln>
          </p:spPr>
        </p:cxnSp>
        <p:cxnSp>
          <p:nvCxnSpPr>
            <p:cNvPr id="254" name="_s8200"/>
            <p:cNvCxnSpPr>
              <a:stCxn id="249" idx="0"/>
              <a:endCxn id="255" idx="2"/>
            </p:cNvCxnSpPr>
            <p:nvPr/>
          </p:nvCxnSpPr>
          <p:spPr>
            <a:xfrm flipV="1">
              <a:off x="4591080" y="3826080"/>
              <a:ext cx="1800" cy="408600"/>
            </a:xfrm>
            <a:prstGeom prst="bentConnector2">
              <a:avLst/>
            </a:prstGeom>
            <a:ln w="28440">
              <a:solidFill>
                <a:srgbClr val="40458c"/>
              </a:solidFill>
              <a:miter/>
            </a:ln>
          </p:spPr>
        </p:cxnSp>
        <p:sp>
          <p:nvSpPr>
            <p:cNvPr id="255" name="_s8201"/>
            <p:cNvSpPr/>
            <p:nvPr/>
          </p:nvSpPr>
          <p:spPr>
            <a:xfrm>
              <a:off x="3949560" y="3098880"/>
              <a:ext cx="1282680" cy="72792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Manufacture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9" name="_s8202"/>
            <p:cNvSpPr/>
            <p:nvPr/>
          </p:nvSpPr>
          <p:spPr>
            <a:xfrm>
              <a:off x="3363840" y="4234680"/>
              <a:ext cx="2453760" cy="72792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1760" rIns="4176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Independent Distributor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3" name="_s8203"/>
            <p:cNvSpPr/>
            <p:nvPr/>
          </p:nvSpPr>
          <p:spPr>
            <a:xfrm>
              <a:off x="1042560" y="5370840"/>
              <a:ext cx="2243160" cy="81504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Independent Retailer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1" name="_s8204"/>
            <p:cNvSpPr/>
            <p:nvPr/>
          </p:nvSpPr>
          <p:spPr>
            <a:xfrm>
              <a:off x="3470040" y="5370840"/>
              <a:ext cx="2243160" cy="81504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Chain Retailer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8" name="_s8206"/>
            <p:cNvSpPr/>
            <p:nvPr/>
          </p:nvSpPr>
          <p:spPr>
            <a:xfrm>
              <a:off x="5897880" y="5370840"/>
              <a:ext cx="2241000" cy="815040"/>
            </a:xfrm>
            <a:prstGeom prst="roundRect">
              <a:avLst>
                <a:gd name="adj" fmla="val 16667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Arial"/>
                </a:rPr>
                <a:t>Online Retailer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ahoma"/>
              </a:rPr>
              <a:t>The Major Play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Whirlpoo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yta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ectrolux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343400" y="1447920"/>
            <a:ext cx="3962520" cy="4816440"/>
            <a:chOff x="4343400" y="1447920"/>
            <a:chExt cx="3962520" cy="4816440"/>
          </a:xfrm>
        </p:grpSpPr>
        <p:pic>
          <p:nvPicPr>
            <p:cNvPr id="259" name="GE%20logo" descr=""/>
            <p:cNvPicPr/>
            <p:nvPr/>
          </p:nvPicPr>
          <p:blipFill>
            <a:blip r:embed="rId5"/>
            <a:stretch/>
          </p:blipFill>
          <p:spPr>
            <a:xfrm>
              <a:off x="6629400" y="3805200"/>
              <a:ext cx="167652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_1270601_vaccuum300" descr=""/>
            <p:cNvPicPr/>
            <p:nvPr/>
          </p:nvPicPr>
          <p:blipFill>
            <a:blip r:embed="rId6"/>
            <a:stretch/>
          </p:blipFill>
          <p:spPr>
            <a:xfrm>
              <a:off x="4343400" y="5257800"/>
              <a:ext cx="167652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maytag-logo" descr=""/>
            <p:cNvPicPr/>
            <p:nvPr/>
          </p:nvPicPr>
          <p:blipFill>
            <a:blip r:embed="rId7"/>
            <a:stretch/>
          </p:blipFill>
          <p:spPr>
            <a:xfrm>
              <a:off x="4343400" y="2852640"/>
              <a:ext cx="189396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whirlpool_logo" descr=""/>
            <p:cNvPicPr/>
            <p:nvPr/>
          </p:nvPicPr>
          <p:blipFill>
            <a:blip r:embed="rId8"/>
            <a:stretch/>
          </p:blipFill>
          <p:spPr>
            <a:xfrm>
              <a:off x="5943600" y="1447920"/>
              <a:ext cx="2286000" cy="1293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9:36:30Z</dcterms:created>
  <dc:creator>Julie</dc:creator>
  <dc:description/>
  <dc:language>en-US</dc:language>
  <cp:lastModifiedBy>Preferred Customer</cp:lastModifiedBy>
  <dcterms:modified xsi:type="dcterms:W3CDTF">2003-03-04T02:55:53Z</dcterms:modified>
  <cp:revision>83</cp:revision>
  <dc:subject/>
  <dc:title>E-Business Trends –  Home Appliances</dc:title>
</cp:coreProperties>
</file>