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51FB-A102-4B7D-99D4-230D520D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C123-59B7-4D80-9962-F20A6B2C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510E-3863-4248-B3BA-3830D43F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0C3C-8578-4291-A143-4C7E183A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A01A-C193-44F1-9B0A-B97E8877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416D-ADB1-4FB1-8D04-F62EF260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5543-D9A4-4861-B132-1349B10A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B61-F414-4B9B-A827-AF5886ED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3D9A-F485-43A7-A26B-6F26A193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8BC4-96EF-43BC-AC10-EC99A2C3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5A4-4360-4011-98CE-52D803F0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094C-8E1D-42D7-854F-3B27E921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6F2E-59E3-46D5-9D98-77AE17FA9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ae92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1828800"/>
            <a:ext cx="6593040" cy="25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LASSIFICA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INAL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47920" y="0"/>
            <a:ext cx="640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7e935"/>
                </a:solidFill>
                <a:uFillTx/>
                <a:latin typeface="Arial Black"/>
              </a:rPr>
              <a:t>CLASSIFICA FIN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9144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f76e"/>
                </a:solidFill>
                <a:latin typeface="Arial Black"/>
              </a:rPr>
              <a:t>TIZIANA MOR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14479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f76e"/>
                </a:solidFill>
                <a:latin typeface="Arial Black"/>
              </a:rPr>
              <a:t>M. ROSSO / M. TEZZ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19810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9f76e"/>
                </a:solidFill>
                <a:latin typeface="Arial Black"/>
              </a:rPr>
              <a:t>MICHELE BOR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29400" y="914400"/>
            <a:ext cx="14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447920"/>
            <a:ext cx="14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0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1981080"/>
            <a:ext cx="14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0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1600" y="914400"/>
            <a:ext cx="838080" cy="1526400"/>
            <a:chOff x="1371600" y="914400"/>
            <a:chExt cx="838080" cy="1526400"/>
          </a:xfrm>
        </p:grpSpPr>
        <p:sp>
          <p:nvSpPr>
            <p:cNvPr id="50" name=""/>
            <p:cNvSpPr/>
            <p:nvPr/>
          </p:nvSpPr>
          <p:spPr>
            <a:xfrm>
              <a:off x="1371600" y="914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9f76e"/>
                  </a:solidFill>
                  <a:latin typeface="Arial Black"/>
                </a:rPr>
                <a:t>0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71600" y="14475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9f76e"/>
                  </a:solidFill>
                  <a:latin typeface="Arial Black"/>
                </a:rPr>
                <a:t>0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1600" y="19810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9f76e"/>
                  </a:solidFill>
                  <a:latin typeface="Arial Black"/>
                </a:rPr>
                <a:t>0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819520" y="3581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GALLO MICH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93240" y="304812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EMIO simpat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4800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ORBIN TIZ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38960" y="426708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EMIO giuria popol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60199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 Black"/>
              </a:rPr>
              <a:t>MORBIN TIZ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440" y="548640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EMIO cri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20:57:28Z</dcterms:created>
  <dc:creator>p-200</dc:creator>
  <dc:description/>
  <dc:language>en-US</dc:language>
  <cp:lastModifiedBy>p-200</cp:lastModifiedBy>
  <dcterms:modified xsi:type="dcterms:W3CDTF">2000-11-15T14:51:42Z</dcterms:modified>
  <cp:revision>40</cp:revision>
  <dc:subject/>
  <dc:title>Nessun titolo diapositiva</dc:title>
</cp:coreProperties>
</file>