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0023-7AD3-45F3-A86A-F0B216FB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8EF-609F-490C-BF0E-398C6616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C4B-3090-41CF-91EB-7D7FE81F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F18D-4B48-4118-866E-0EE75198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306-60D4-46C4-85A3-E6587EB0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9AA9-F88D-4560-86FB-D98F659C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612-82E4-4E6A-9569-6C56843E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C328-6438-42C4-AACF-C7DAC7B3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FCD-E1A3-4862-93DB-C08FB4BF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501-56B4-400D-9F67-70F2F934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F73-3926-4D2F-8BBD-F7295E6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D96-0F4F-4135-AF42-93889397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9A4F-5B53-4506-BA25-88D144A5B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POL" descr=""/>
          <p:cNvPicPr/>
          <p:nvPr/>
        </p:nvPicPr>
        <p:blipFill>
          <a:blip r:embed="rId1"/>
          <a:stretch/>
        </p:blipFill>
        <p:spPr>
          <a:xfrm>
            <a:off x="1371600" y="0"/>
            <a:ext cx="61149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971800"/>
            <a:ext cx="72388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cc"/>
                </a:solidFill>
                <a:latin typeface="Arial Black"/>
              </a:rPr>
              <a:t>in</a:t>
            </a:r>
            <a:r>
              <a:rPr b="0" i="1" lang="en-US" sz="4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cc"/>
                </a:solidFill>
                <a:latin typeface="Arial Black"/>
              </a:rPr>
              <a:t>collaborazione c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ANTOP~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80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6520" y="2514600"/>
            <a:ext cx="647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99ff66"/>
                </a:solidFill>
                <a:latin typeface="Arial Black"/>
              </a:rPr>
              <a:t>presenta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68580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 Black"/>
              </a:rPr>
              <a:t>4° CONCORSO CANO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100NOTE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00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64911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07dee"/>
                </a:solidFill>
                <a:latin typeface="Arial"/>
              </a:rPr>
              <a:t>http://members.tripod.com/cento_note  e-mail: _100note@freemail.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274320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99ff66"/>
                </a:solidFill>
                <a:latin typeface="Arial Black"/>
              </a:rPr>
              <a:t>conduce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1800" y="236232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0" spc="-1" strike="noStrike">
                <a:solidFill>
                  <a:srgbClr val="99ff66"/>
                </a:solidFill>
                <a:latin typeface="Arial Black"/>
              </a:rPr>
              <a:t>Luca Lazzarini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UCA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446560" cy="512784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380880"/>
            <a:ext cx="685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99ff66"/>
                </a:solidFill>
                <a:latin typeface="Arial Black"/>
              </a:rPr>
              <a:t>in diretta su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LERA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553080" cy="37893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66"/>
                </a:solidFill>
                <a:latin typeface="Arial Black"/>
              </a:rPr>
              <a:t>ORGANIZZAZI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66680"/>
            <a:ext cx="3200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 Black"/>
              </a:rPr>
              <a:t>Tecnico aud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66"/>
                </a:solidFill>
                <a:latin typeface="Arial Black"/>
              </a:rPr>
              <a:t>CAR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3200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 Black"/>
              </a:rPr>
              <a:t>Tecnico luc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66"/>
                </a:solidFill>
                <a:latin typeface="Arial Black"/>
              </a:rPr>
              <a:t>SAMUEN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24080"/>
            <a:ext cx="3200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 Black"/>
              </a:rPr>
              <a:t>Tecnico vide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66"/>
                </a:solidFill>
                <a:latin typeface="Arial Black"/>
              </a:rPr>
              <a:t>CLAUDI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581280"/>
            <a:ext cx="53341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ccff"/>
                </a:solidFill>
                <a:latin typeface="Arial Black"/>
              </a:rPr>
              <a:t>C.E.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ff66"/>
                </a:solidFill>
                <a:latin typeface="Arial Black"/>
              </a:rPr>
              <a:t>ASCA, BEPPE, TERO, DIEG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5622840"/>
            <a:ext cx="32004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000" spc="-1" strike="noStrike">
                <a:solidFill>
                  <a:srgbClr val="ccccff"/>
                </a:solidFill>
                <a:latin typeface="Arial Black"/>
              </a:rPr>
              <a:t>Supervis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99ff66"/>
                </a:solidFill>
                <a:latin typeface="Arial Black"/>
              </a:rPr>
              <a:t>RICCARD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4:06:30Z</dcterms:created>
  <dc:creator>p-200</dc:creator>
  <dc:description/>
  <dc:language>en-US</dc:language>
  <cp:lastModifiedBy>p-200</cp:lastModifiedBy>
  <dcterms:modified xsi:type="dcterms:W3CDTF">2000-11-15T14:51:20Z</dcterms:modified>
  <cp:revision>25</cp:revision>
  <dc:subject/>
  <dc:title>Nessun titolo diapositiva</dc:title>
</cp:coreProperties>
</file>