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04B1D-ED67-4C5F-AC2C-4F0755C4D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BE75D-0312-4896-827B-0E75A2579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3AF7C-A6C6-497A-8FEE-598203F5E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1F5DF-14ED-4E3A-BC4C-550022EDD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29CF5-2E86-46CE-BF1C-C53777B1A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12B05-CE74-413B-A4A3-F7744F192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971D0-E817-4869-B157-AAB1F9A41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716D4-DCD8-4A28-B9BA-D59D44B10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31EE6-7808-4526-8CC6-43AB3BFC3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D2628-107E-4E70-952B-0FA159EFF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BF863-45B4-4D3B-A2D0-5DE4CAA6F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E6AD3-101B-471D-8666-8148C4087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61647-FE12-4803-8B4B-4EA6DB8FEC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cae92d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143000" y="2362320"/>
            <a:ext cx="659304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LASSIFICA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slow" advTm="5000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447920" y="0"/>
            <a:ext cx="6400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7e935"/>
                </a:solidFill>
                <a:uFillTx/>
                <a:latin typeface="Arial Black"/>
              </a:rPr>
              <a:t>CLASSIFICA PER LA FASE FINAL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523880" y="4130640"/>
            <a:ext cx="3733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Black"/>
              </a:rPr>
              <a:t>VALERIA PAGLIARI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781680" y="4130640"/>
            <a:ext cx="1451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Black"/>
              </a:rPr>
              <a:t>440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523880" y="4587840"/>
            <a:ext cx="3810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Black"/>
              </a:rPr>
              <a:t>UMBERTO BORTOL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781680" y="4587840"/>
            <a:ext cx="1451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Black"/>
              </a:rPr>
              <a:t>436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523880" y="5045040"/>
            <a:ext cx="3733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Black"/>
              </a:rPr>
              <a:t>TATIANA TIENG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781680" y="5045040"/>
            <a:ext cx="1451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Black"/>
              </a:rPr>
              <a:t>427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523880" y="5516640"/>
            <a:ext cx="46483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Black"/>
              </a:rPr>
              <a:t>LAURA MOLIN/FRANCESC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781680" y="5502240"/>
            <a:ext cx="1451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Black"/>
              </a:rPr>
              <a:t>361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523880" y="5973840"/>
            <a:ext cx="3962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Black"/>
              </a:rPr>
              <a:t>SONIA INCANUT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781680" y="5959440"/>
            <a:ext cx="1451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Black"/>
              </a:rPr>
              <a:t>359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523880" y="6431040"/>
            <a:ext cx="2895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Black"/>
              </a:rPr>
              <a:t>ANDREA MERLI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781680" y="6431040"/>
            <a:ext cx="1451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Black"/>
              </a:rPr>
              <a:t>34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895480" y="1143000"/>
            <a:ext cx="3810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ae92d"/>
                </a:solidFill>
                <a:latin typeface="Arial Black"/>
              </a:rPr>
              <a:t>ROSSO/TEZZ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95480" y="1600200"/>
            <a:ext cx="2895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ae92d"/>
                </a:solidFill>
                <a:latin typeface="Arial Black"/>
              </a:rPr>
              <a:t>TIZIANA MORBI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895480" y="2057400"/>
            <a:ext cx="3048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ae92d"/>
                </a:solidFill>
                <a:latin typeface="Arial Black"/>
              </a:rPr>
              <a:t>MICHELE BORI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523880" y="3230640"/>
            <a:ext cx="3962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Black"/>
              </a:rPr>
              <a:t>COSIMO DE PAOL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781680" y="3230640"/>
            <a:ext cx="1451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Black"/>
              </a:rPr>
              <a:t>463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523880" y="3687840"/>
            <a:ext cx="4038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Black"/>
              </a:rPr>
              <a:t>MICHELE GALL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781680" y="3687840"/>
            <a:ext cx="1451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Black"/>
              </a:rPr>
              <a:t>442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 txBox="1"/>
          <p:nvPr/>
        </p:nvSpPr>
        <p:spPr>
          <a:xfrm rot="5400000">
            <a:off x="4952520" y="1447560"/>
            <a:ext cx="2286000" cy="6094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FINALISTI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3" name=""/>
          <p:cNvSpPr txBox="1"/>
          <p:nvPr/>
        </p:nvSpPr>
        <p:spPr>
          <a:xfrm rot="5400000">
            <a:off x="1523520" y="1447560"/>
            <a:ext cx="2286000" cy="6094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FINALISTI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838080" y="3200400"/>
            <a:ext cx="609840" cy="3659760"/>
            <a:chOff x="838080" y="3200400"/>
            <a:chExt cx="609840" cy="3659760"/>
          </a:xfrm>
        </p:grpSpPr>
        <p:sp>
          <p:nvSpPr>
            <p:cNvPr id="65" name=""/>
            <p:cNvSpPr/>
            <p:nvPr/>
          </p:nvSpPr>
          <p:spPr>
            <a:xfrm>
              <a:off x="838080" y="3200400"/>
              <a:ext cx="6098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33cc33"/>
                  </a:solidFill>
                  <a:latin typeface="Arial"/>
                </a:rPr>
                <a:t>04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38080" y="3657600"/>
              <a:ext cx="6098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33cc33"/>
                  </a:solidFill>
                  <a:latin typeface="Arial"/>
                </a:rPr>
                <a:t>05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38080" y="4114800"/>
              <a:ext cx="6098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33cc33"/>
                  </a:solidFill>
                  <a:latin typeface="Arial"/>
                </a:rPr>
                <a:t>06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38080" y="4572000"/>
              <a:ext cx="6098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33cc33"/>
                  </a:solidFill>
                  <a:latin typeface="Arial"/>
                </a:rPr>
                <a:t>07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838080" y="5029200"/>
              <a:ext cx="6098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33cc33"/>
                  </a:solidFill>
                  <a:latin typeface="Arial"/>
                </a:rPr>
                <a:t>08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838080" y="5486400"/>
              <a:ext cx="6098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33cc33"/>
                  </a:solidFill>
                  <a:latin typeface="Arial"/>
                </a:rPr>
                <a:t>09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38080" y="5943600"/>
              <a:ext cx="6098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33cc33"/>
                  </a:solidFill>
                  <a:latin typeface="Arial"/>
                </a:rPr>
                <a:t>10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38080" y="6431040"/>
              <a:ext cx="6098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33cc33"/>
                  </a:solidFill>
                  <a:latin typeface="Arial"/>
                </a:rPr>
                <a:t>11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 advTm="5000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31T20:57:28Z</dcterms:created>
  <dc:creator>p-200</dc:creator>
  <dc:description/>
  <dc:language>en-US</dc:language>
  <cp:lastModifiedBy>p-200</cp:lastModifiedBy>
  <dcterms:modified xsi:type="dcterms:W3CDTF">2000-11-15T14:51:02Z</dcterms:modified>
  <cp:revision>42</cp:revision>
  <dc:subject/>
  <dc:title>Nessun titolo diapositiva</dc:title>
</cp:coreProperties>
</file>