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E43A-8D80-40A2-ACEE-48267C173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75E8-6E28-4D85-90DA-DD54ECC55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3F7E-1B18-46BD-9116-3D21F63B5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F4BA-1B69-4445-BF54-9D791FE3E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6F446-D99E-42DA-B27E-E421C411D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EC149-D162-449C-AD2D-FB26B28C5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6384B-0D7D-4E56-8249-91A3B10AC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00BB6-DFB3-43FC-A955-ECC5699B6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E0C29-9276-4A4F-9FD1-AA6202615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A030E-7604-43DD-9BF1-9760C99D9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822B7-F10A-4F2E-8BE1-C9AB4374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C68B-878F-4DD6-9BCE-E4049FCAF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B7FD4-33A5-4D36-B756-8BAF8640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23189-89C3-47DC-8E1F-91BA680A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9F571-691F-4807-8877-FC5DF6C0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FB54E-527B-4B90-B6CF-175CBFB75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11699-D54A-40BF-8BAD-6F27899E9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E4A4-270A-4B7E-BF8B-7042D84AD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1B93-8036-4DFB-9DA2-8FC136AB7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81AB-AA83-452D-8B06-E3FC46083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0159-69F6-44D8-BDFD-EFC9C924E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EDFB-88B9-497B-BABD-E8E94328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B448-2F2F-41A6-9864-4D09F8FF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ADA3-8135-4DDF-8E3C-B2008864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AEE0C-5EED-41F7-9BFD-702537B0DE9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F3ECA-0380-450B-9115-2737C4066D3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040" y="106668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hris Koer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990720" y="281952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siness Sales Gradu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sentation fo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lantic Packag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iograph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am 21 years old born in Stratford, Ontar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am the only son with 3 elder sist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duated from St. Michaels secondary scho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duated from Loyalist College, presently working for Atlantic Packag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hris Koer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always finish what I start while being punctu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am trained in both Solution &amp; Relationship sell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was able to finish school while maintaining a part-time job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 am a self starter as well as enjoying working with other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llege Education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37335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 attended Loyalist College, Belleville, O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 studied Business Sales.  I selected the course because of how reputable the program i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5029200" y="1600200"/>
            <a:ext cx="38098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usiness Sal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usiness Sales was a well rounded course with the follow included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program consisted of courses such a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mputers, Marketing, Sales role-play and territory manage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ith the great education I received I have now started my career with Atlantic Packag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obbies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657680" y="1599840"/>
            <a:ext cx="4184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ck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seba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ugb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olleyba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ndom Extra Task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4496040" cy="43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xperien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84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yalist Colle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rmac Resource Grou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lantic Packag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ster Seal Socie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leth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4419720" y="2438280"/>
            <a:ext cx="419400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oal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rt my career with Atlantic Packag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 years establish strong client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0 years make over six figure sala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ntact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hope I fulfilled your expectations and maybe one day we can do Busines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you have any question feel free to call 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519)821-7684 o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ail: chris.koert@rogers.c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02:44:54Z</dcterms:created>
  <dc:creator> </dc:creator>
  <dc:description/>
  <dc:language>en-US</dc:language>
  <cp:lastModifiedBy> Jason Boomhour</cp:lastModifiedBy>
  <dcterms:modified xsi:type="dcterms:W3CDTF">2004-04-30T02:01:36Z</dcterms:modified>
  <cp:revision>9</cp:revision>
  <dc:subject/>
  <dc:title>Ryan Slattery</dc:title>
</cp:coreProperties>
</file>