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F285-8256-4401-BB57-5506D1327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D105-65E8-4448-BA8C-1CC2185C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3FED-AE3F-40EB-9D17-D08ACE733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E477-D373-4B4F-90E6-BF213CEEA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6249-A0EF-486B-95E7-2F62112C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2B93-2FFB-4A5C-8CFB-F7B7A64F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7368-00A5-42B0-8EFD-1CF48843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096A-7F0F-4B41-AEEB-C3DF1229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52FE-7002-4C4C-87DB-B47941AA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60CD-B972-4ACA-AF5C-EA97326B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9C39-2186-45A6-BDE1-0C3E6C38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3D0D-9026-49EF-873F-7D094DA4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80BA-A55D-4C99-892C-C142D6DC7D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Health-Process-Evidence-based Clinical Practice Guideline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or</a:t>
            </a:r>
            <a:br>
              <a:rPr sz="4000"/>
            </a:br>
            <a:r>
              <a:rPr b="1" lang="en-US" sz="4000" spc="-1" strike="noStrike">
                <a:solidFill>
                  <a:srgbClr val="fc1c04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eritoniti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4720" y="3875040"/>
            <a:ext cx="363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rrick K.</a:t>
            </a:r>
            <a:r>
              <a:rPr b="0" lang="en-US" sz="2800" spc="-1" strike="noStrike">
                <a:solidFill>
                  <a:srgbClr val="fc1c0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ua, M.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ffy G. Guerra, M.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7. What are conditions that a patient with peritonitis do not need surgery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eriton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eritonitis from uncomplicated inflammation of vital visce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infectious peritonitis except when involving macro foreign bo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8. What are the treatment goals for peritonitis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olve the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 com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9. What is the best timing for surgery in patients with peritonitis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itonitis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o visceral ischemia- before gangrene (~4hrs) sets 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ed peritonitis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o visceral perforation- as soon as possible after adequate (not necessarily complete) resuscit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lized peritonitis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o visceral perforation- as soon a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eritonitis- as soon as optimiz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º to 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complicated non-vital visceral infections that would recur, semi-elective if initially responsive to antibiotic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10. What is/are the most cost-effective procedure in preventing postop complications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of drain when necessary, only when necessa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er choice of antibiotics when necessa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1. What is the OMMC Surgery’s operational concept of peritonitis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itonitis- inflammation involving the parietal peritone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ce of the following inside the peritoneal cavit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ectious material (bacteria, TB, fungi, virus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lammatory material (chemicals, cytokines, foreign bod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2. What are the causes of peritonitis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3. What are the types of peritonitis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agent of 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bial- bacterial, TB, fungal, vi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infectious- chemical, physical, cytoki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origin of cause (table 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º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º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specific cause (table 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extent of invol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iz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iz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Table 1- Types of Peritonitis Based on Origin of Caus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066680"/>
                <a:gridCol w="4419720"/>
                <a:gridCol w="274320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SimSun"/>
                        </a:rPr>
                        <a:t>Caus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SimSun"/>
                        </a:rPr>
                        <a:t>Predisposi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7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ahoma"/>
                          <a:ea typeface="SimSun"/>
                        </a:rPr>
                        <a:t>1°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SimSun"/>
                        </a:rPr>
                        <a:t>without obvious source of contamin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SimSun"/>
                        </a:rPr>
                        <a:t>asci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SimSun"/>
                        </a:rPr>
                        <a:t>CAP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7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ahoma"/>
                          <a:ea typeface="SimSun"/>
                        </a:rPr>
                        <a:t>2°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SimSun"/>
                        </a:rPr>
                        <a:t>with gross contamination of peritoneal cav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SimSun"/>
                        </a:rPr>
                        <a:t>perfor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SimSun"/>
                        </a:rPr>
                        <a:t>adj inflamm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7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ff"/>
                          </a:solidFill>
                          <a:latin typeface="Tahoma"/>
                          <a:ea typeface="SimSun"/>
                        </a:rPr>
                        <a:t>3°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SimSun"/>
                        </a:rPr>
                        <a:t>with persistence of surgically addressed 2°peritonit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SimSun"/>
                        </a:rPr>
                        <a:t>devitalized tissu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SimSun"/>
                        </a:rPr>
                        <a:t>foreign bod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able 2- Types of Peritonitis Based on Specific Cause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219320"/>
          <a:ext cx="8229600" cy="5414760"/>
        </p:xfrm>
        <a:graphic>
          <a:graphicData uri="http://schemas.openxmlformats.org/drawingml/2006/table">
            <a:tbl>
              <a:tblPr/>
              <a:tblGrid>
                <a:gridCol w="1219320"/>
                <a:gridCol w="3657600"/>
                <a:gridCol w="335268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ig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crobi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Noninfectio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Pseud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Lead, Porphyric, Dru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Spontaneous bacterial, TB, Vi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iodic peritonit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yperlipidem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Most peritoneal dialysis catheter associa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 CAP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32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°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Perforation of visc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Ischemia of viscu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dotox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Adjacent visceral infec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arly adjacent visceral inflamm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3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Persistent, Recurr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eign body, Tal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4. What are reliable signs and symptoms (more than 90% certainty) that will indicate that a patient has peritonitis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istent or progressive abdominal tenderness and guar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1532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5. If a paraclinical diagnostic procedure is needed in a patient with suspected peritonitis, what is the most cost-effective procedure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ial abdominal examination (observatio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6. What is the most cost effective treatment in patients with peritonitis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ends on type of peritonitis, e.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infectious or viral peritonitis- suppor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ntaneous bacterial peritonitis- antibio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B peritonitis- antituberculosis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º in CAPD- antibiotics + removal of catheter if antimicrobials f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ary peritonitis- address the cause e.g. prevent further contamination by repairing the perforatio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± antibio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istent/ recurrent peritonitis- surgery + antimicrobials for hospital pathog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3:23:06Z</dcterms:created>
  <dc:creator>Surgery</dc:creator>
  <dc:description/>
  <dc:language>en-US</dc:language>
  <cp:lastModifiedBy>Martin Joseph Cabahug</cp:lastModifiedBy>
  <dcterms:modified xsi:type="dcterms:W3CDTF">2004-11-24T05:58:04Z</dcterms:modified>
  <cp:revision>64</cp:revision>
  <dc:subject/>
  <dc:title>Health-Process-Evidence-based Clinical Practice Guidelines Acute Abdomen </dc:title>
</cp:coreProperties>
</file>