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3DD-085D-4433-A6B3-D79F926C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04A-55A0-4797-AC1D-98DA875B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182-9CAE-48CE-8CE7-29D4949E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A46-A13C-402C-8BA2-18ADECF0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3708-DBDC-44EA-9771-E1F1764F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A72-449B-4317-B281-1ACD477C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756-409A-4B56-9D77-557A2F90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836-8F54-4582-A592-4B825CE4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C86-C088-4607-A63B-E21043CD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E7A-9FC0-4A54-B28D-F29609E7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BDC-5401-4AC1-A44A-9E3B2DAC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0CD-8362-4E93-923A-59B5469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56F3-AD83-491C-8F4D-F76D61625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tandard 3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Educational leaders apply technology to enhance their professional practice and to increase their own productivity and that of oth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255600"/>
            <a:ext cx="2362320" cy="1801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:  Educational leaders model the routine, intentional, and effective use of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 ski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ass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echnologies that would help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ski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processing, spreadsheets, databases, electronic calendar and e-mail, PDA, telephone, fax, cell phone, page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Ide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the use of technology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nd choose technology wis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B:  Employ technology for communication and 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, don’t compl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others to communicate effectively using availabl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community demo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, calendars, word process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ffective persona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hared decision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consistent parameters for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:  Create and participate in learning communities for improved produ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realistic expectations for yourself and your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better use of the information that you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al immediately with potential obsta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positive technology use with online list servs, newsletters, e-mai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promote professional development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nd plan for current expectations that need to be changed or re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the school community to become involved in online learning and sharing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D:  Engage in sustained, job-related professional learning using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 Ski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feedback about current staf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reas where technology can be incorporated as a resource or deliver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Ski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ine learning, self-paced video, CD-ROM based learning, teleconferenc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staff development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existing services to existing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:  Maintain awareness of emerging technologies and their potential use in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evaluate to determine if new skills are benefiting you in your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local experts for advice and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processing, spreadsheets, databases, electronic calendar and e-mail, PDA, telephone, fax, cell phone, pag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Id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information with staff through articles and discussions and staf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:  Use technology to advance organizational impr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dership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proactive approach when addressing areas of concern and be sensitive to the needs of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site issues and research possible solutions for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regularly with staff and community about technology plan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lanning software, e-mail, shared d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end training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procedures and processes for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an action plan and timeline fo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discussions and thoughts about improvement eff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27:37Z</dcterms:created>
  <dc:creator> </dc:creator>
  <dc:description/>
  <dc:language>en-US</dc:language>
  <cp:lastModifiedBy> </cp:lastModifiedBy>
  <dcterms:modified xsi:type="dcterms:W3CDTF">2003-06-30T17:27:18Z</dcterms:modified>
  <cp:revision>11</cp:revision>
  <dc:subject/>
  <dc:title>Standard 3: Educational leaders apply technology to enhance their professional practice and to increase their own productivity and that of others.</dc:title>
</cp:coreProperties>
</file>