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695-E522-4045-8D93-205E9F3D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3BC-066A-47A4-B3D1-9BBBC68D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68A0-82EE-4320-9A20-20F6C5EE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1E0-D857-48FF-8DAE-928246CA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FB7E-388A-4690-8D2D-BD4880E9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4BF1-1D80-455B-8292-396E1066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28F6-6453-4BE5-9DB8-80361653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BF76-2144-4BA3-9990-8CD60BDB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89F4-72BF-48EC-8C22-0BA012AA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8B94-480E-4BBD-804D-F9B3208B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4B09-A156-4FAB-AD68-A08A8DE7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94C-FD6F-4DBF-A4A3-F2EDBBB5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BEE0-5D17-4783-A8F6-4AAD788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8041-CE6F-4460-8912-8D605F45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CDBF-2F32-4AAF-8C13-D6E7B9D8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252A-4D97-4F7C-9A62-0175A053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BDB4-C00D-40FE-BC7F-39B32E28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B256-CFC0-4D3E-A49E-3B369D74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0DE-E25F-4890-9CFC-BC9DA685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6DF2-DDE9-4AB6-9A95-F86D6D69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5D6-6326-4F2A-9BED-2AC02754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0E4-4722-4E66-B4D1-5820F0E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72F-2E95-4E12-AA9A-004B9A4C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B10-A987-4978-838E-F931AFEA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0431-54C2-4258-9E10-4CE195013B5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16FA-ED75-45EF-A845-B2126FF43DF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entury Gothic"/>
              </a:rPr>
              <a:t>Standard 6:  Educational Leaders understand the social, legal, and ethical issues related to technology and model responsible decision-making related to these issu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entury Gothic"/>
              </a:rPr>
              <a:t>Ensure equity of access to technology resour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Provide for a training plan of staff that allows training to be relevant and curre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Develop a plan of computer placement to insure equal access to all student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Insure that instructional schedules integrate technology equitab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Develop a budget that allows for future growth and upgrades/repair with a complete turn every 5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272520"/>
            <a:ext cx="8301240" cy="14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entury Gothic"/>
              </a:rPr>
              <a:t>Identify, communicate, model end enforce social legal, and ethical practi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Develop appropriate policies and procedur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Develop contracts between parents, students, and school that outline the poli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Incorporate software to monitor internet acces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Conduct in-service for teachers concerning policies and procedures.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entury Gothic"/>
              </a:rPr>
              <a:t>Promote and enforce privacy, security, and online safety related to the use of technolog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45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Develop appropriate policies and procedur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Develop contracts between parents, students, and school that outline the poli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Incorporate software to monitor internet acces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Conduct in-service for teachers concerning policies and procedur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entury Gothic"/>
              </a:rPr>
              <a:t>Promote and enforce environmentally safe and healthy practice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905120"/>
            <a:ext cx="8226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Staff development relevant to safe and healthy practic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New purchases should be reviewed for compliance with safety and health issu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Review personnel and student statistics for instances of health problems related to computer us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Replace defective furniture as soon as possib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72880"/>
            <a:ext cx="822960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entury Gothic"/>
              </a:rPr>
              <a:t>Participate in the development of policies that clearly enforce copyright law and ownership of intellectual property developed with district resource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2004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Develop policies and procedures that reflect appropriate use of copyright material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Conduct staff development on copyright law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Develop policies and procedure concerning intellectual property developed with district resourc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Conduct staff development on intellectual propert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16:25:52Z</dcterms:created>
  <dc:creator> </dc:creator>
  <dc:description/>
  <dc:language>en-US</dc:language>
  <cp:lastModifiedBy> </cp:lastModifiedBy>
  <dcterms:modified xsi:type="dcterms:W3CDTF">2003-06-30T17:32:50Z</dcterms:modified>
  <cp:revision>3</cp:revision>
  <dc:subject/>
  <dc:title>Standard 6:  Educational Leaders understand the social, legal, and ethical issues related to technology and model responsible decision-making related to these issues.</dc:title>
</cp:coreProperties>
</file>