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7A4-B180-46A5-8144-903DD923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5420-74D1-45D9-A45F-262E2445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D31-A41E-4F4A-83C4-4B201427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BC6-6207-4A34-8066-F3219746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96E2-BD9C-4095-8D65-F6CB62D6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21A9-9B3B-436C-B65F-57F923FB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F0FD-4457-4023-8D37-BC894E61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534F-7932-42E3-B7E0-58F6C8B9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4E17-5F54-488F-A63A-9BE7D638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901D-A15A-4B22-9BE6-A7AFDFCD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4D45-0DA1-4624-B9F4-CB094703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1BC-CCFC-4BB1-87EE-C56598BE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2886-1630-4781-86B0-3431882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4195-C66A-4060-B8EF-96897179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EF70-58F1-4E66-B86E-18093326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7E5D-F1FD-46FD-B1EC-4E96C9B0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EC56-D0A5-48E1-86A6-753A23C4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8062-BD87-45A1-9BFC-0CEB514B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641-48CB-46A6-8739-912A45F6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A918-2139-4427-A5FB-05125F28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6D4-B89A-415C-9F46-C3C0B4C8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34EB-451A-4EB7-940A-E0C32FA3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8DFE-B0AF-4BB9-B7C6-EDE8B708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6FC-04C0-4897-B550-81759D46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20E1-15F8-4C87-92E6-9FFD3F9E8F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5178-D63F-4F6B-9780-8A72440F35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aking Technology Standards Work for You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S-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andard II.D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the use of technologies to support and enhance instructional methods that develop higher level thinking, decision making, and problem-solving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I.D. Facilitate HOTS and Technolog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2540160"/>
                <a:gridCol w="2616120"/>
                <a:gridCol w="261612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hip Skil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of curriculum and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e staff of benefits and drawbacks of technology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and understanding of instructional practices that enhance H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of technology standards for students and teach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information, training, resources, best practices, and site visit opportunitie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andard II.E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or and ensure that faculty and staff take advantage of quality professional learning opportunities for improved learning and teaching with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I.E. Ensure staff’s professional learn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2540160"/>
                <a:gridCol w="2616120"/>
                <a:gridCol w="261612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hip Skil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personal professional growth plans for sta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e funds for 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 PD opportunitie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growth – attend workshops for adm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 staff to conferences and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onsite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 and apply for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andard II Tea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ja Long, Overland Park, 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ne Esdaille, Pembroke, Berm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i Larsen, Greenville, 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g Wills, Tacoma, 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tandard II: Learning and Teaching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leaders ensure that curricular design, instructional strategies, and learning environments integrate appropriate technologies to maximize learning and te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andard II.A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use, evaluate, and promote appropriate technologies to enhance and support instruction and standards-based curriculum leading to high levels of student achiev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I.A. Identify, Use, Evaluat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90720" y="1600200"/>
          <a:ext cx="7696080" cy="4944960"/>
        </p:xfrm>
        <a:graphic>
          <a:graphicData uri="http://schemas.openxmlformats.org/drawingml/2006/table">
            <a:tbl>
              <a:tblPr/>
              <a:tblGrid>
                <a:gridCol w="2514600"/>
                <a:gridCol w="2590560"/>
                <a:gridCol w="25909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hip Skil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of curriculum and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effective instructional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eness of educational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reness hardware available in sch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ong interpersonal/communication skil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ing appropriate technology use (email, ppt, word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appropriate software/hard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of educational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ng able to evaluate ed software and websi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 of technology for resear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 (with tech committee) curriculum-based software for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opportunities for site-based staff to align software with curriculum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quality, ed software for sch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 new software/technologies to enhance academic ar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andard II.B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and support collaborative technology enriched learning environments conducive to innovation for improved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I.B. Facilitate &amp; Support Learning Environ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600200"/>
          <a:ext cx="7772400" cy="4726080"/>
        </p:xfrm>
        <a:graphic>
          <a:graphicData uri="http://schemas.openxmlformats.org/drawingml/2006/table">
            <a:tbl>
              <a:tblPr/>
              <a:tblGrid>
                <a:gridCol w="2540160"/>
                <a:gridCol w="2616120"/>
                <a:gridCol w="2616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hip Skil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time for planning and collaboration with te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 PD of teac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that teachers have the necessary equipment to implement technology-rich less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that technology is supported and wo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knowledge of why teachers need to be using 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knowledge of importance of technology in 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resources for staff on innovative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training for sta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andard II.C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or learner centered environments that use technology to meet the individual and diverse needs of learn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II.C.  Learner-centered Environmen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1600200"/>
          <a:ext cx="7772400" cy="3086280"/>
        </p:xfrm>
        <a:graphic>
          <a:graphicData uri="http://schemas.openxmlformats.org/drawingml/2006/table">
            <a:tbl>
              <a:tblPr/>
              <a:tblGrid>
                <a:gridCol w="2540160"/>
                <a:gridCol w="2616120"/>
                <a:gridCol w="2616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ership Skil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 Ski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tion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a vision for a learner-centered technology-ri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lity to communicate vision to 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standing of project-based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of effective equipment 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ledge of 1-5 computer classroom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 vis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cate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ideas/resources for making use of different levels of technology availability (ex: 1-5 computer classroo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7:20:20Z</dcterms:created>
  <dc:creator> </dc:creator>
  <dc:description/>
  <dc:language>en-US</dc:language>
  <cp:lastModifiedBy> </cp:lastModifiedBy>
  <dcterms:modified xsi:type="dcterms:W3CDTF">2003-06-30T18:14:18Z</dcterms:modified>
  <cp:revision>6</cp:revision>
  <dc:subject/>
  <dc:title>Making Technology Standards Work for You</dc:title>
</cp:coreProperties>
</file>