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2C6-A6CE-4CDD-AAE9-006926DC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5E0-5621-4088-9951-DD81AD1A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BB7D-4044-4250-814A-D413B22A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D47-D50E-45FF-81D0-094788083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FE3C-EB01-48A7-BFFB-22D4EE18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0B96-ECBC-421F-8D88-FC6DAB6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9847-BBC0-492C-9B70-52253492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3DE0-A62F-4ED4-AD62-35C946C1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3607-43B9-404F-84F5-130679AE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24F1-3190-4237-9202-8EDE324D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E03F-752B-4FC3-948F-E7F6A88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D4B-4030-4AA0-988C-A763DEA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1C5B-8007-48EC-A566-3817AB47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519-C81A-4683-BE76-4BBCDE18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33A5-8FB4-4D28-9CCF-A5AC5221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877F-3267-47FA-889E-07F520E6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1C2A-4442-4E99-84B4-2886C74B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8E7-1E3A-476E-9B56-FE823DAD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827-EECE-40E4-A2F8-6F4CA20C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E070-1056-40D9-9261-D1176FC4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4F20-CA4A-4736-B846-547E0D0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DCB3-006B-49D7-8B2A-A3A87E49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8C4-1F1F-4ABB-A6C8-9370FB0E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12F-7EE3-444B-AC60-265CA1B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9A2-83CC-4680-9ACA-74D4E247BE7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DAE9-149C-4EC1-AB3A-6010616D254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oldend@edmonds.wednet.edu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 -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971800" y="3885840"/>
            <a:ext cx="59436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Building a Technological Administrato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Edmonds School Distric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February 7, 200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Mr. Dave Gold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666880"/>
            <a:ext cx="213372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8120" y="36576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8120" y="54100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2133720"/>
            <a:ext cx="581652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Leadership and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Learning and Tea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Productivity and Professional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upport, Management and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Assessment and Eval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Social, Legal and Ethic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2430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king a closer look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33560" y="1885680"/>
            <a:ext cx="49021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 Cond"/>
              </a:rPr>
              <a:t>I. Leadership and 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 Cond"/>
              </a:rPr>
              <a:t>Everyone should know where we are, where we going, where we want to be, and WH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Demi Cond"/>
              </a:rPr>
              <a:t>Modeling the vi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949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00040" y="1885680"/>
            <a:ext cx="54356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Demi Cond"/>
              </a:rPr>
              <a:t>Standard I, Goal B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: maintain an inclusive and cohesive process to develop, implement, and monitor a dynamic, long-range, and systemic technology plan to achieve the visio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Our principal could form a committee to develop a collaborative, technology-rich school improvement plan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Demi Cond"/>
              </a:rPr>
              <a:t>grounded in research</a:t>
            </a:r>
            <a:r>
              <a:rPr b="0" lang="en-US" sz="2400" spc="-1" strike="noStrike">
                <a:solidFill>
                  <a:srgbClr val="000000"/>
                </a:solidFill>
                <a:latin typeface="Franklin Gothic Demi Cond"/>
              </a:rPr>
              <a:t> and aligned with the district strategic plan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01464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-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w does this performance indicator support improved teaching and learning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971800" y="1885680"/>
            <a:ext cx="56642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Exploring / using new applications of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Application to real-world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Less ‘doubling-up’ on known technology application (power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Depth and breadth of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21906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6221" t="0" r="27035" b="0"/>
          <a:stretch/>
        </p:blipFill>
        <p:spPr>
          <a:xfrm>
            <a:off x="228600" y="1828800"/>
            <a:ext cx="3200400" cy="42292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w could this performance indicator be incorporated into a school improvement plan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76720" y="1905120"/>
            <a:ext cx="53337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Identify areas of needed trai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Addition of an in-house “technology coach” or area tech-savvy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Training and in-service opportun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Periodic reminders for staff for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Designated mandatory funding &amp;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could implementation of this performance indicator be measured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52680" y="1885680"/>
            <a:ext cx="52833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Reduced number of tech calls to tech support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Improved productivity among staff (“work smarter, not harder”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Pre- and post-evaluate staff on stated technology sk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Demi Cond"/>
              </a:rPr>
              <a:t>Teachers can articulate stated building and district technology 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27026" t="21172" r="24325" b="0"/>
          <a:stretch/>
        </p:blipFill>
        <p:spPr>
          <a:xfrm>
            <a:off x="533520" y="1905120"/>
            <a:ext cx="27432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Kirk Kriskovich</cp:lastModifiedBy>
  <dcterms:modified xsi:type="dcterms:W3CDTF">2005-02-07T18:15:45Z</dcterms:modified>
  <cp:revision>8</cp:revision>
  <dc:subject/>
  <dc:title>Enter the Type of Standards here (e.g., NETS*S)</dc:title>
</cp:coreProperties>
</file>