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78D-A2B8-4477-9D8A-06342813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BA9F-4BBF-4653-A73C-E2DF3E8C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6079-7EDB-4C77-BFB1-10D71E08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04A-8456-46A1-A7C8-7164ADFA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DEA1-CC9B-40A8-A9C7-ECB00382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ABBF-ECF9-4E4E-BED4-F0CD6C4E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FDCD-60C4-4D05-ABF4-C1EAA4DE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0AF9-BFF3-49A0-9DCA-089AD8BA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51E1-65B1-4349-808F-0E359A21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9739-ED5E-4F33-BABA-DD341047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52D3-7138-437A-8FEF-3340F519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8FE-1F05-481C-B324-65C2AA93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C191-7F9D-4235-BFD8-55DDF497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BCF3-8406-4BFA-9066-9B81081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9FC3-B5ED-46B0-9582-69FD86A5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21DC-EAE7-44C0-BA81-15E77095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CCBB-B289-4201-AA26-37D15590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A07-C319-448E-8F3B-6487A4C1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88A-37A2-42C1-B7AC-33ABAF3B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B76-29C6-4785-B2A9-B0CA58D0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25E1-CAD1-4F7D-9F6D-227C570A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0E3-BA4D-4F39-9DC5-69ED7BDD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EDB-7C7E-4A84-A184-7037C7C3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AF9-677C-4194-8307-F59E4313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83DD-D140-4EBB-A2D5-A63AE0FB9C6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1386-230D-4B11-A60D-852B3DF7AC4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 (add ‘A,’ ‘T,’ or ‘S’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uillayute Valley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une 20, 200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the areas 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ndard area descrip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the standard area name 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a brief description 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performance indica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the performance indicator 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the sample activity 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 4 title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 5 title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 6 title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Susan Brooks-Young</cp:lastModifiedBy>
  <dcterms:modified xsi:type="dcterms:W3CDTF">2005-06-20T02:43:34Z</dcterms:modified>
  <cp:revision>4</cp:revision>
  <dc:subject/>
  <dc:title>Enter the Type of Standards here (e.g., NETS*S)</dc:title>
</cp:coreProperties>
</file>