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9FC-BE97-4FA9-94C8-1F9B3E06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E6F9-4DA2-42C0-A0D7-FC094FF3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7DD4-F6A4-4C91-9AE9-0A655861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29D-8EC8-45E7-BF20-0E772A6E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C087-F0AB-4FC5-899E-6C100C11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653A-6F0C-403E-8872-25B0143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066C-36D8-42AA-AC9D-CA03B501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8524-B77F-425F-A4DF-EDD2CACA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52F5-CCD7-4E5D-B0A1-902EBE16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A341-D1FF-4F40-B5D1-C673FA84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55C5-5236-4FA7-8A6C-42B331CD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8F6-DEB6-4FA2-8672-AF889C21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92F0-1450-4E36-97B5-8A7B1A9F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D960-B29B-422A-9E5C-CCEAB989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27AC-63F8-428B-8211-F5189B20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B54-F281-4523-9ADA-3DF6FAAA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16B3-4345-431C-873F-4C8C7A6B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A20-2FD8-49A9-89B8-C639F88B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66EB-57BC-472B-B577-B64F103D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8D5-93FC-4EA3-9F3A-EEE87057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489-D6F3-43C6-9566-D18DC338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79F-194F-4706-BEC9-AD60FAC6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A73-E32C-43D0-975A-6CE87BE9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052-1228-447A-9E07-D6D98C9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96A8-7C9C-463F-9549-DB781DD7D92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126-D12B-43F7-8962-2B5F18B7414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 (add ‘A,’ ‘T,’ or ‘S’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monds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7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the six standards areas 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standard area your group selected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a brief description of this standard area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performance indicator your group selected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 the sample activity your group identified 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4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5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 6 title he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2-01T20:08:45Z</dcterms:modified>
  <cp:revision>4</cp:revision>
  <dc:subject/>
  <dc:title>Enter the Type of Standards here (e.g., NETS*S)</dc:title>
</cp:coreProperties>
</file>