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9D1-0ECD-4599-83CB-D1A87315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2B7-505E-4EA0-A17B-32B4CE70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8B49-F04E-444B-A3F2-381B1E4AC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EE1-D1A3-413F-A75C-F307DD27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E20C-D2BC-48EE-A107-F58A9B2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B9AA-3076-4D48-AD5E-128F9976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8906-AF43-44E6-8DEA-CD055565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6FBB-D2D4-40C4-88F0-49A007E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254F-73ED-424C-85C7-105CD375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55B2-505C-43F9-8362-184C416A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23B-DE54-4C55-8300-D02C06BF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1FE-0311-4BC6-8DBB-EC771585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1C1-9893-48E3-8758-D4321CC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C4FD0-F22A-4B2F-A79A-F97EBD8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5C55-065D-475F-B56A-0D72D137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D932-F74A-4CBB-9480-857D0283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B993-14E8-48BA-AD79-82062F2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B32-2E1E-47F1-AF6B-3D2E7CA7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C57-D0F8-42CC-8FF7-907F021C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14F-63D5-4D98-821E-326BE10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6FE-587E-40B0-99D7-B1B293D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EEA-3DAF-4778-B82F-4349F58D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B6F5-FE82-488D-9906-832CEB8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28A7-E9A0-416F-9CA9-92898BBF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0C56-6439-4427-8F06-627EB803C93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701A-0256-45EF-868A-5C57E85250B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 (Administrator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209680"/>
            <a:ext cx="723924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inbridge Island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gust 5, 2004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bs01635_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917800" cy="288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rove Teaching and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and defined vision and action plan for technology integration into the learning commun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 roadmap for implement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orporation into SI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in tandem with the school improvement team to imbed technology into learning goals consistent with the vision of our technology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asuring our go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85680"/>
            <a:ext cx="69343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ision and mission implementation will be measured during the school survey study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LEADERSHIP AND VISION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inspire a shared vision for comprehensive integration of technology and foster an environment and culture conducive to the realization of that vis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E07677_" descr=""/>
          <p:cNvPicPr/>
          <p:nvPr/>
        </p:nvPicPr>
        <p:blipFill>
          <a:blip r:embed="rId1"/>
          <a:stretch/>
        </p:blipFill>
        <p:spPr>
          <a:xfrm>
            <a:off x="4114800" y="4038480"/>
            <a:ext cx="2355840" cy="23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LEARNING AND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ensure that curricular design, instructional strategies, and learning environments integrate appropriate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bd00146_" descr=""/>
          <p:cNvPicPr/>
          <p:nvPr/>
        </p:nvPicPr>
        <p:blipFill>
          <a:blip r:embed="rId1"/>
          <a:stretch/>
        </p:blipFill>
        <p:spPr>
          <a:xfrm>
            <a:off x="5029200" y="3429000"/>
            <a:ext cx="3352680" cy="332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PRODUCTIVITY AND PROFESSIONAL PRACTIC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apply technology to enhance their professional practice and to increase their own productivity and that of others.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so00305_" descr=""/>
          <p:cNvPicPr/>
          <p:nvPr/>
        </p:nvPicPr>
        <p:blipFill>
          <a:blip r:embed="rId1"/>
          <a:stretch/>
        </p:blipFill>
        <p:spPr>
          <a:xfrm>
            <a:off x="4572000" y="3397320"/>
            <a:ext cx="3505320" cy="328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SUPPORT, MANAGEMENT, AND OPER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ensure the integration of technology to support productive systems for learning and administratio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ASSESSMENT AND EVALU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use technology to plan and implement comprehensive systems of effective assessment and evalu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SOCIAL, LEGAL, AND ETHICAL ISSU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leaders understand the social, legal, and ethical issues related to technology and model responsible decision-making related to these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dership and Vis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our responsibility to create an atmosphere where the educational community can develop a common vision for technology.  In addition, we need to model effective technology practices and advocate for broad suppor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ate the shared development by all stakeholders of a vision for technology use and widely communicate that v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a staff, parent, and student technology team to provide leadership and facilitation in leading the staff to establish a school-wide vision of technology implementa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Any User</cp:lastModifiedBy>
  <dcterms:modified xsi:type="dcterms:W3CDTF">2004-08-05T17:15:32Z</dcterms:modified>
  <cp:revision>10</cp:revision>
  <dc:subject/>
  <dc:title>Enter the Type of Standards here (e.g., NETS*S)</dc:title>
</cp:coreProperties>
</file>