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58DE-80A7-4167-99AF-23C8F7E8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643-47D1-48ED-873B-EDB4E38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179-8E3E-4A24-A68D-9C46724B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5139-8C4A-48E3-A4BE-D181766A0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EE32-6F6B-489F-9967-B16C56FC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4DBA-3967-4BDA-893F-D831D07C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0049-BF07-4F95-A93E-53A506BB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F428-B5EF-4C89-98A3-3483EB6A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CB55-E873-4C92-B2B4-CA786840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3CC6-06FE-4075-A5C1-F695B4A8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C0F7-0213-435C-8FEB-A18D80EF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865-4B5C-42D2-A608-D08729B7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0BFD-7A70-4366-BCC8-344EF2BF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2355-C9C4-432F-A25F-FB1CAED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CF5F-13B3-433D-BDB3-77819FB3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EE07-7C1B-470F-AF4C-25109CF5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D327-0278-4F5D-B9F7-FA7B53BF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247-9581-4F50-A20F-3A53E0F1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DF7-823B-487C-9F79-85E86C0F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CFD-DA46-4BD9-A21E-BF8F0676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177-B76A-47AF-BD70-10B3C0CF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997-9425-4042-9067-21672ADF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1C2-52A0-4E2D-B9CE-51560E17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B67-EA8A-4A64-A502-FD67A08B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9AFD-2B8D-4ABC-9D7A-468687DB0FFF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D7FB-3EDC-4263-9B21-2FE8A27E235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nets.iste.org/administrators/a_stands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 Introduction to NETS for Administrators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Edmonds School District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February 7, 2005</a:t>
            </a:r>
            <a:endParaRPr b="0" lang="en-US" sz="3200" spc="-1" strike="noStrike">
              <a:solidFill>
                <a:srgbClr val="ffffcc"/>
              </a:solidFill>
              <a:latin typeface="Arial Black"/>
            </a:endParaRPr>
          </a:p>
        </p:txBody>
      </p:sp>
      <p:pic>
        <p:nvPicPr>
          <p:cNvPr id="86" name="" descr="ISTE NETS Project">
            <a:hlinkClick r:id="rId1"/>
          </p:cNvPr>
          <p:cNvPicPr/>
          <p:nvPr/>
        </p:nvPicPr>
        <p:blipFill>
          <a:blip r:embed="rId2"/>
          <a:stretch/>
        </p:blipFill>
        <p:spPr>
          <a:xfrm rot="20284200">
            <a:off x="1143000" y="3200040"/>
            <a:ext cx="1542960" cy="723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tandards overview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tandard area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 closer look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One performance indicator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upporting teaching &amp; learning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ie to school improve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adership and Vis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earning and Teach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ductivity and Professional Practic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upport, Management, and Operatio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Assessment and Evalu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ocial, Legal, and Ethical Issu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Taking a closer look…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tandard II: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 Learning and Teaching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sist teachers in utilizing technology to analyze needs of students, plan curriculum, and adapt instruction to meet the needs of all learners.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Professional development activities are collaboratively designed for all staff to improve learning and teaching with technology. Administrators participates in professional development activities and supports teacher involvement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One performance indicator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Educational Leaders: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 provide for and ensure that faculty and staff take advantage of quality professional learning opportunities for improved learning and teaching with technology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Activity Ideas: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Schedule sharing time at the beginning of staff meetings for technology implementation strategies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Provide professional development on LID days during building time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Cover classes for teachers to observe their peers integrating technology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Be a resource for grants and funding for training opportunities outside the school day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Encourage teachers to participate in classes offered through the IMD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ow does this performance indicator support improved teaching and learning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ofessional development gives the teachers skills and training needed to successfully integrate technology into teaching and learning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How could this performance indicator be incorporated into a school improvement plan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Technology is used to collect and analyze data used in the SIP pla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Math and Literacy improvement plans include elements of technology integratio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ow could implementation of this performance indicator be measured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Staff survey indicates increased use of technology resources, courses, and implementation in the classroom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GAP goals include technology integration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Principal observations indicate attitude and culture of technology as an integral part of the curriculum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7238880" y="60199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76" h="21600">
                <a:moveTo>
                  <a:pt x="23231" y="10800"/>
                </a:moveTo>
                <a:lnTo>
                  <a:pt x="37244" y="3794"/>
                </a:lnTo>
                <a:lnTo>
                  <a:pt x="3724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Susan Brooks-Young</cp:lastModifiedBy>
  <dcterms:modified xsi:type="dcterms:W3CDTF">2005-02-08T02:50:59Z</dcterms:modified>
  <cp:revision>8</cp:revision>
  <dc:subject/>
  <dc:title>Enter the Type of Standards here (e.g., NETS*S)</dc:title>
</cp:coreProperties>
</file>