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8C9-0D78-4004-B24F-364CD1D3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378-0D04-4D6B-A25C-C07E9F72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0323-4F5D-4C92-92ED-0BD744E4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448-9F1E-43EA-BF18-4006CBCF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89B6-64F6-4D3D-A88D-1CCDE3D0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C7FE-192A-4A98-A4DA-BAF43DBA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C38F-AF0D-4EA4-B089-3BC8D405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8E5-8E9F-4FAF-952D-8CCD6875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2F2D-2DD0-4073-AB98-6BF0D653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EF2A-2437-417D-9643-9B3BBE1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F147-6853-43D0-BF4E-0201EF66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B45-E43E-443A-8A21-6CE7C63C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194A-0754-4633-A1B4-E61E8CDF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00F7-4FD4-414C-BF31-3F5E9DBF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EC44-30D9-4953-B06F-064CC070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FAE9-B782-4394-9537-FAA59538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48E-8963-49E9-8AA3-647D89B04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076-C641-40BC-8F57-CF18B30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CBA-C1F7-4985-8C2D-422DB820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20D-705C-46C9-AEA9-3ACD713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A76-B92A-4F27-8054-6569E108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1AB-49D7-48DE-BF0E-967E6251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E02D-D835-4279-B64F-DD7EEAD9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D7D-C737-4FAF-AD8A-B4C5CFBF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DA9D-B3B9-4DDD-A585-898D3ADFBD9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A8F6-8293-4B04-B8FD-760602B63CC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S standards for stud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inbridge Island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ugust 5, 2004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operation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, ethical, and human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productivity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communication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problem-solving and decision-making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area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puter to search the Internet for information or other sour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ology as an information gathering t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echnology as a process for creating, collecting, and sharing information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technology to evaluate and select new resources or tools for research and 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Indicator &amp; Single Content Ar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echnology as an information gathering too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ntent-specific tools,software, and simulations (e.g. environment probes, graphing calculators, exploratory environments, Web tools) to support learning and research in Scie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assignmen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your water quality probe to measure the pH of Sakai Stream/Woodward Cr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your findings on the Excel template on your P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ve your muddy boots outside the classroom door to avoid activating the kid cleaner syst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e02281_" descr=""/>
          <p:cNvPicPr/>
          <p:nvPr/>
        </p:nvPicPr>
        <p:blipFill>
          <a:blip r:embed="rId1"/>
          <a:stretch/>
        </p:blipFill>
        <p:spPr>
          <a:xfrm>
            <a:off x="6705720" y="2895480"/>
            <a:ext cx="1917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terdisciplinary Connections and Assessmen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r assignment will be graded based on the following compon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ience - Demonstrates understanding of the concepts of pH (acids and base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h – Effectively analyzes and displays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 Arts – Writes a comprehensive report outlining find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bd05176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6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jvanderstoep</cp:lastModifiedBy>
  <dcterms:modified xsi:type="dcterms:W3CDTF">2004-08-05T17:22:08Z</dcterms:modified>
  <cp:revision>8</cp:revision>
  <dc:subject/>
  <dc:title>Enter the Type of Standards here (e.g., NETS*S)</dc:title>
</cp:coreProperties>
</file>