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9FE-9A7A-4198-83AC-69B728FE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131-790D-4209-9116-9E49403D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1B53-772E-45A4-961D-0B1124E3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020-38A0-4C14-A3FA-ABB2EC2F6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4622-DA9F-4F44-8437-D5D0E4E47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DB91-2B78-46BE-A947-49EE9D727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3500-A888-4978-A152-CDD3EA2F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ADED-7F3F-49B2-91C2-CD7EAC72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E566-8143-40EE-8B20-ECD9CC7E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2343-5982-48CA-9C36-DA3AA8A9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ABE2-775C-491D-B5CC-88D425B2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5DD-F040-4561-98A9-57144B22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B48-1082-4227-B2A6-2579198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DBF6-2A45-4795-9B73-BCB7C733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B0EF-9384-4739-A29A-BFF0684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45E-9148-44AE-8A34-4FAA1837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B09A-062E-4DC6-955D-252796B5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F9C-6E9D-4C06-8BD2-827CD2C6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40A3-5977-4011-A84C-37BAFD55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1DD-E43A-4020-AA8B-BD0A6F76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FD52-5953-4B66-99E9-6F071EA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686-72F6-4F69-A3F4-DCC4F952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7A0-B37F-4F2E-BC75-F8526BB4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205-B545-48F1-876F-265B8990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54D-0968-45ED-977E-B3A9DEF485C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0AB-3B49-496A-AA01-4DDBA55B7AB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tt.pugetsoundenter.org/projects/2002/ttt02092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4571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monds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7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7888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, and Huma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ductivity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Communications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blem-Solving and Decision-Making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use a variety of resources to research, report, and evaluate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243828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153280" cy="35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elecommunications and online resources to participate in collaborative problem-solving activities for the purpose of developing solutions or products for audiences inside and outside the classroo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ity: Web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0" y="4114800"/>
            <a:ext cx="2514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How can the performance indicator be incorporated into a single content area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 Area: Social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olumbus WebQu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research the controversy surrounding Christopher Columbus and the national holiday named for him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http://ttt.pugetsoundcenter.org/projects/2002/ttt02092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50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can this performance indicator be incorporated into an interdisciplinary unit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Areas: Literacy &amp; Social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Columbus Day Web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students research the social studies content, in a persuasive essay, they answer the question: What should be done about Columbus day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How could student performance of this performance indicator be measured?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s can be assessed with rubrics in the following a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Administrator</cp:lastModifiedBy>
  <dcterms:modified xsi:type="dcterms:W3CDTF">2005-02-07T18:17:02Z</dcterms:modified>
  <cp:revision>15</cp:revision>
  <dc:subject/>
  <dc:title>Enter the Type of Standards here (e.g., NETS*S)</dc:title>
</cp:coreProperties>
</file>