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EE5-ECF0-4100-93C8-A3580923B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BF10-0D04-4AC8-9100-E491419B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AB2C-44D4-4E3D-8CF6-D9C3B70C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7AB1-1724-4487-8CE0-9DC76667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0264-8C0C-4FBB-AEB5-B9FB87BF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BC66-D3CB-4B7D-AF48-68EF9975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C145-2079-44F7-BB18-6B6B7DED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4C57-C280-472E-9A1B-E788B3DD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9D76-44BA-4349-B1CE-8AB906E3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8B5B-DD82-4C5F-93C3-9E646D85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D620-8201-4E5A-BD22-28563F4E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38A-198E-454B-B884-AA06BF15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2255-7D0A-41AA-9210-98A85FCC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59BE-4A90-4EB4-ABDA-3ED22207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7035-6940-4228-9251-2B112A98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2130-167F-46D9-8040-1DD45C0F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8C3F-4114-4D92-8C0A-21E6BBD2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309A-3C09-4CD7-82C8-089B3E57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2FA9-A4C8-4994-B477-A9C0E681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2FD3-1D9D-4428-989E-DA6E6AE4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B7FF-FA76-47D0-BEC3-7C755F8F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6B7-84F3-46A7-A3EB-DC168C4F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B5B9-3ACD-4A02-A730-4EBAF4A3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19B-DAC2-4BB3-BE29-6204521E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111E-A7EB-40A6-B485-2CEA1E67E6E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BFE1-228D-4B06-8642-BE5D8E41BF7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 Introduction to NETS*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udents in High Scho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dmonds School Distric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ebruary 7, 2005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standard are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operations and concep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, ethical, and human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productivity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communications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research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problem-solving and decision-ma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king a closer look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hnology Research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echnology to locate information, process data, and report results. Choose technology appropriate for a given tas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will possess the ability to use computers to access, evaluate, and synthesize information from a variety of resources. Students will make intelligent choices to answer essential questions and present their information in an effective and efficient man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performance indicat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and apply technology tools for research, information analysis, problem-solving, and decision-making in content learn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will research the life and work of a famous mathematician using multiple media, in order to create a poster which includes written and visual elements. Students will choose what they feel is an important accomplishment of their mathematician and explain how this accomplishment is relevant to our li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arch Underlies All Discipli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earch is an essential component of all content are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earch teaches students how to learn, how to find answers to ques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ent Area Conne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s: geometry/architecture, do statistics lie, history of discover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ience: biology/visual arts/foren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cial studies: essential question-driven re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glish: issues and controvers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disciplinary Proj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gives a dam about water?’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ience, math, English skills are all used in this multi-disciplinary ecology un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sess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92420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-based rubr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l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ent self-ref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content ar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1:06:54Z</dcterms:created>
  <dc:creator>Susan Brooks-Young</dc:creator>
  <dc:description/>
  <dc:language>en-US</dc:language>
  <cp:lastModifiedBy>Susan Brooks-Young</cp:lastModifiedBy>
  <dcterms:modified xsi:type="dcterms:W3CDTF">2005-02-09T17:43:09Z</dcterms:modified>
  <cp:revision>19</cp:revision>
  <dc:subject/>
  <dc:title>Enter the Type of Standards here (e.g., NETS*S)</dc:title>
</cp:coreProperties>
</file>