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3AC2D-FD78-43B7-AAFA-660ACAEAE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1CF23B-747D-4A39-90F9-E2E353BDF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8B0F6-EC38-41CF-AC25-E4F23EE5E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9A197-3DAD-47CD-9301-EC1B6FC4D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AA0A5-74E4-47B5-BF5F-B6EA2E0E3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E5D5D-CFAC-43CF-A193-6BE09AED8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5CE6D-04EE-46E9-B844-890515F8F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B50CE-7CA6-4737-A402-4FC8C7645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022FB-6BFE-46A6-B065-D123E9D12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56299-913F-4A2D-9C1A-90A0FABE4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D41C17-605E-4645-BAB2-5EE2FAA7A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43F39-54C0-4D67-B23B-F559BF3AF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22884-22C3-4C8B-A61C-B294EDC43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182C3-AE94-471A-AF48-815C2A03E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E6DE9-3A71-425D-A85D-CC7A5144C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6FCC0B-2029-46FF-AB70-D1ADC99D8F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BFE9C2-2CD5-4E64-A354-83EC38D766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DF789-FDD1-4095-9EB2-FAE5EB41C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AB310-2B3C-4F50-8274-B5C8DFF70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DB470-DC2E-4CCF-A93F-453255D66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73E29-CF06-45CB-B9EC-9862EDDC5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AC171-2208-42DF-AF35-6053269AE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D8953-4EC6-4653-A2DB-DBF0F4D0A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B4001-BFEA-4CE1-82AF-9CD4BC199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0750-1EB8-4FFC-A128-8C037CA1D45F}"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DFA27-3212-4A84-9166-1E155EC603CA}" type="slidenum">
              <a:rPr b="0" lang="en-US" sz="1400" spc="-1" strike="noStrike">
                <a:solidFill>
                  <a:srgbClr val="5e574e"/>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An Introduction to NETS*S</a:t>
            </a:r>
            <a:endParaRPr b="0" lang="en-US" sz="3600" spc="-1" strike="noStrike">
              <a:solidFill>
                <a:srgbClr val="0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dmonds School District</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ebruary 7, 2005</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standard areas</a:t>
            </a:r>
            <a:endParaRPr b="0" lang="en-US" sz="4000" spc="-1" strike="noStrike">
              <a:solidFill>
                <a:srgbClr val="000000"/>
              </a:solidFill>
              <a:latin typeface="Arial Black"/>
            </a:endParaRPr>
          </a:p>
        </p:txBody>
      </p:sp>
      <p:sp>
        <p:nvSpPr>
          <p:cNvPr id="8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asic Operations and Concept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Ethical, Human Issue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hnology Productivity Tool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hnology Communication Tool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hnology Research Skill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hnology Problem Solving and Decision Making Too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aking a closer look…</a:t>
            </a:r>
            <a:endParaRPr b="0" lang="en-US" sz="4000" spc="-1" strike="noStrike">
              <a:solidFill>
                <a:srgbClr val="000000"/>
              </a:solidFill>
              <a:latin typeface="Arial Black"/>
            </a:endParaRPr>
          </a:p>
        </p:txBody>
      </p:sp>
      <p:sp>
        <p:nvSpPr>
          <p:cNvPr id="8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chnology Productivity Tools</a:t>
            </a:r>
            <a:endParaRPr b="0" lang="en-US" sz="32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use technology tools to enhance learning, increase productivity, and promote creativity.</a:t>
            </a:r>
            <a:endParaRPr b="0" lang="en-US" sz="2800" spc="-1" strike="noStrike">
              <a:solidFill>
                <a:srgbClr val="000000"/>
              </a:solidFill>
              <a:latin typeface="Tahoma"/>
            </a:endParaRPr>
          </a:p>
          <a:p>
            <a:pPr lvl="1" marL="743040" indent="-28584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use productivity tools to collaborate in constructing technology-enhanced models, prepare publications, and produce other creative work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escription</a:t>
            </a: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will use technology tools to collaborate on a variety of projects to enhance their learning, productivity, and creativity.</a:t>
            </a:r>
            <a:endParaRPr b="0" lang="en-US" sz="2800" spc="-1" strike="noStrike">
              <a:solidFill>
                <a:srgbClr val="000000"/>
              </a:solidFill>
              <a:latin typeface="Tahoma"/>
            </a:endParaRPr>
          </a:p>
          <a:p>
            <a:pPr marL="325800" indent="-325800">
              <a:lnSpc>
                <a:spcPct val="8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tools will allow kids to do things that they wouldn’t be able to do with just pencil and paper.  They can acquire more information through a wider variety of tools and be able to demonstrate this knowledge through a variety of collaborative works.  These tools can provide an alternative way to demonstrate creativity, but not necessarily the best wa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ne performance indicator</a:t>
            </a:r>
            <a:endParaRPr b="0" lang="en-US" sz="3600" spc="-1" strike="noStrike">
              <a:solidFill>
                <a:srgbClr val="000000"/>
              </a:solidFill>
              <a:latin typeface="Arial Black"/>
            </a:endParaRPr>
          </a:p>
        </p:txBody>
      </p:sp>
      <p:sp>
        <p:nvSpPr>
          <p:cNvPr id="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 technology tools (e.g., multimedia authoring, presentation, Web tools, digital cameras, scanners) for individual and collaborative writing, communication, and publishing activities to create knowledge products for audiences inside and outside the classroo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mple activity – </a:t>
            </a:r>
            <a:br>
              <a:rPr sz="4000"/>
            </a:br>
            <a:r>
              <a:rPr b="0" lang="en-US" sz="1800" spc="-1" strike="noStrike">
                <a:solidFill>
                  <a:srgbClr val="000000"/>
                </a:solidFill>
                <a:latin typeface="Arial Black"/>
              </a:rPr>
              <a:t>One  Student Activity</a:t>
            </a:r>
            <a:endParaRPr b="0" lang="en-US" sz="18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will be able to access a bookmarked website on a daily basis to collect and record informat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Question 4: </a:t>
            </a:r>
            <a:r>
              <a:rPr b="0" lang="en-US" sz="2000" spc="-1" strike="noStrike">
                <a:solidFill>
                  <a:srgbClr val="000000"/>
                </a:solidFill>
                <a:latin typeface="Arial Black"/>
              </a:rPr>
              <a:t>Single Academic Content Area</a:t>
            </a:r>
            <a:endParaRPr b="0" lang="en-US" sz="2000" spc="-1" strike="noStrike">
              <a:solidFill>
                <a:srgbClr val="000000"/>
              </a:solidFill>
              <a:latin typeface="Arial Black"/>
            </a:endParaRPr>
          </a:p>
        </p:txBody>
      </p:sp>
      <p:sp>
        <p:nvSpPr>
          <p:cNvPr id="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cience – Weather Chang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8128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Question 5 : </a:t>
            </a:r>
            <a:r>
              <a:rPr b="0" lang="en-US" sz="1800" spc="-1" strike="noStrike">
                <a:solidFill>
                  <a:srgbClr val="000000"/>
                </a:solidFill>
                <a:latin typeface="Arial Black"/>
              </a:rPr>
              <a:t>Interdisciplinary Instructional Unit</a:t>
            </a:r>
            <a:endParaRPr b="0" lang="en-US" sz="18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essing weather of a city in the world on web page (city selected with help from parents) - Reading</a:t>
            </a:r>
            <a:endParaRPr b="0" lang="en-US" sz="2800" spc="-1" strike="noStrike">
              <a:solidFill>
                <a:srgbClr val="0000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cording information on paper and on computer to be posted in hallway and classroom webpage - Communication</a:t>
            </a:r>
            <a:endParaRPr b="0" lang="en-US" sz="2800" spc="-1" strike="noStrike">
              <a:solidFill>
                <a:srgbClr val="000000"/>
              </a:solidFill>
              <a:latin typeface="Tahoma"/>
            </a:endParaRPr>
          </a:p>
          <a:p>
            <a:pPr marL="343080" indent="-343080">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phing weather of cities over time (on paper and using GraphClub Software or Excel) – Math</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Question 6 : Assessments</a:t>
            </a: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will be able to identify and accurately describe the weather of their selected city for the observed period of tim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6T01:06:54Z</dcterms:created>
  <dc:creator>Susan Brooks-Young</dc:creator>
  <dc:description/>
  <dc:language>en-US</dc:language>
  <cp:lastModifiedBy>Administrator</cp:lastModifiedBy>
  <dcterms:modified xsi:type="dcterms:W3CDTF">2005-02-07T18:41:06Z</dcterms:modified>
  <cp:revision>7</cp:revision>
  <dc:subject/>
  <dc:title>Enter the Type of Standards here (e.g., NETS*S)</dc:title>
</cp:coreProperties>
</file>