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4576-948A-4948-96BD-525A215D7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E518-1684-4CCC-B6D1-693A1832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3842-1A67-4755-B6DC-A10906BEB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8C98-D12C-4EC2-8D92-095AB3C73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8E8A-DC2F-4A76-B6B0-9E1C6E4F1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F44B-8634-47B8-AFA9-A86CC4B5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A42E-1A90-4C3E-8330-54217647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F1D0-EC66-4968-9BBC-988E8A199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7AF61-F1B6-4D39-A9B2-AAA1165F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8F03-7DD1-4B45-8DD1-0D246573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918A-BA34-4AE3-814C-E1DB1D10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B639-5841-4D5E-8A47-1F9287ED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8B31-7346-4732-A1A3-59173F82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0E12-2A38-476D-BAF0-F759E1C8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A56F-D7E9-47FA-A5EE-C807EA4C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2F43A-6A03-4170-A67E-5C8C7BA20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541BF-840E-47DC-8615-6A42615D5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3BC8-8102-464D-BE0C-E30F9DE4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EDE2-BD5D-449C-82EE-5650D973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52C7-622F-4608-8CD9-73B074E7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F3AB-07BD-4333-B068-3CF97D7D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C053-95B2-4FEA-8D19-A25B185A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887F-0E0C-4A6E-B03D-9496F839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DE36-4E0C-4E53-8E48-405EE95C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A772-049E-4654-A3D0-0409490CFED5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4003-CD9E-40AA-8BF4-6A9F8CCDFDC3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 Introduction to NETS*T Teachers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ainbridge Island School Distric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ugust 5, 2004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teacher standard areas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hnology operations and concep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and designing learning environments and experi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aching, learning, and the curricul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essment and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 and professional 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cial, ethical, legal, and human issu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andard area descrip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Teaching, learning, and the curricul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ing technology into the curricul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ructional use/strategi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learner centered strategies through the use of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of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 and Monitor student lear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ological experi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cilitate technology—enhanced Experiences that address content standards and student technology standard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eate a lesson plan that teaches students how to successfully manipulate a PowerPoint docu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ngle content area example:  PowerPoint and Mathematic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w a PowerPoint presentation on the History of Mathematics as an example of a report completed on PowerPoin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guiding questions to get an understanding of students’ knowledge of PowerPoi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students log-in to comp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students demonstrate the steps required to access PowerPo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 the projector lead students through accessing PowerPoin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serve students teaching other stude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uide students through creating a micro docum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disciplinary applic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on plan should ask guiding questions to understand the historical as well as the mathematical concepts involved with the History of Mathemati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acher needs a solid background in cont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acher needs to be able to access URL’s that have historical 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acher needs to be able to have a clear connection of the Global context of the Mathematical discoveri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acher needs to be able to successfully adopt the material into an organized PowerPoint present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et “Ric.”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fineschool" descr=""/>
          <p:cNvPicPr/>
          <p:nvPr/>
        </p:nvPicPr>
        <p:blipFill>
          <a:blip r:embed="rId1"/>
          <a:stretch/>
        </p:blipFill>
        <p:spPr>
          <a:xfrm>
            <a:off x="3048120" y="2209680"/>
            <a:ext cx="2925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ssessment of teacher perform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es the lesson fl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well does the teacher communicate the manipulation of PowerPoin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the information presented accurat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es the teacher appear to be comfortable with the technolog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6T01:06:54Z</dcterms:created>
  <dc:creator>Susan Brooks-Young</dc:creator>
  <dc:description/>
  <dc:language>en-US</dc:language>
  <cp:lastModifiedBy>Pre-Installed User</cp:lastModifiedBy>
  <dcterms:modified xsi:type="dcterms:W3CDTF">2004-08-05T19:40:19Z</dcterms:modified>
  <cp:revision>16</cp:revision>
  <dc:subject/>
  <dc:title>Enter the Type of Standards here (e.g., NETS*S)</dc:title>
</cp:coreProperties>
</file>