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6082-BEBA-4252-AF40-E5285C58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6FFD-E96E-4F5A-9AE0-B163ECBE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08FD-BCE7-453A-823A-01CF79AF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C82-8120-432D-A9C0-D78D99CF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18AC-BA37-4DB7-B123-A3142AA9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B863-4D4E-40EF-9BE6-F19FA326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A3A8-590F-428B-9D94-A7309219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047E-3E79-4919-AD6C-6DD53466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EB1F-E4BC-4E0B-ABB5-495D17CE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129B-544B-4CEF-80BA-319C53AC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2317-28E4-442B-8A44-5D48D8A1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5E03-BA7E-4467-A8CB-0629265C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07E8-6A4D-49C8-9EEB-F203A7B0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0FF-2D1C-4B05-A411-C53ECBE9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BBCB-F467-4A78-AB41-4358D721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3CD6-7353-4252-B735-ECDBED62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0219-340F-469D-A19B-34928807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42B-0088-4C06-9ECF-45C5C7DA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B19-F6C5-4F64-B92C-3641F40A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4C5-D27A-447C-96A4-04EC0A73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E78-8781-4198-ADA1-21D8DF58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16C-03AE-4A49-B951-FE7339D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9BF-9605-48A2-8F3D-46D43E4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D775-B9B8-4CB3-B7B0-E8EB62A3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3E19-5815-4D53-B1D3-B3D731726D6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BDEF-FA4E-4B55-9BED-25A7D7B6ED1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Introduction to NETS*T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dmonds School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bruary 7, 200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S*T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The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A closer l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3" action="ppaction://hlinksldjump"/>
              </a:rPr>
              <a:t>One performance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content area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interdisciplinary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ahoma"/>
                <a:hlinkClick r:id="rId4" action="ppaction://hlinksldjump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tandard are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Operations and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and Designing Learning Environments and Experi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aching, Learning and the Curricul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ssment and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 and Professional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, Ethical, Legal and Huma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king a closer look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 and Professional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ing more efficiently; deciding and supporting your own professional development, related to best practices in Standard 2; communicating with professional learning communities and families to increase learn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performance indicat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inually evaluate and reflect on professional practice to make informed decisions regarding the use of technology in support of student learn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lective learning portfolio for the purpose of affecting student learning outc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scribe how this indicator can be incorporated into a single academic content are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could be incorporated into any content area but for math, specifically, after completing a unit on graphing, a teacher might document several students’ growth from pre-assessment to a post assessment to identify trends and strengths in student learning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escribe how this indicator can be incorporated into an interdisciplinary instructional unit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le planning a unit, teachers would reflect on the experiences to ensure alignment with content stand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w could teacher performance in implementation of this indicator be measured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-going written reflection and adaptation of teaching strategi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Susan Brooks-Young</cp:lastModifiedBy>
  <dcterms:modified xsi:type="dcterms:W3CDTF">2005-02-08T02:46:13Z</dcterms:modified>
  <cp:revision>9</cp:revision>
  <dc:subject/>
  <dc:title>Enter the Type of Standards here (e.g., NETS*S)</dc:title>
</cp:coreProperties>
</file>