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0E2B-E531-430B-A141-0345EFEF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A66-BA8E-401C-B32A-7EC91C67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FE2-4ACB-4551-83BF-B93D9F27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37F4-C4BE-4D39-9D20-D2F2E8592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74E5-D2DB-4898-B83F-6A7217CE6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56C9-44E0-4757-9223-6BEF7EAF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084A-3700-420C-9AEB-7D7B70C4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DA12-4429-4B45-BB89-74F86C65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A483E-82F0-40F0-B7D8-687E5711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58F0-D20D-4CE1-9623-25221E94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9034-9C52-4468-ACF5-6CA7ED3F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95F-C1F0-4594-B947-AAC1DA24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3529-30E4-47E5-B3D6-36AA93CD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E668-3CD9-43CA-BA83-66168A21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BD00-B25A-4578-A845-4E8FF2C4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F7F4-D380-473B-BAEF-DC8BA2F1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18E5-35B9-4096-8F0A-A8151FBE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77BC-E819-46E2-813F-E0548380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7440-A85D-4830-AC45-F4C3E2D0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8310-9DE4-49B5-A321-B7C5AE14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FB46-2B65-427F-AF30-23541DC6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5C4-4A3C-4E21-9CBB-71D2E2E6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991E-63DC-489A-8B02-FEF6E631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C96-A30A-4411-94B3-DD06D6DD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AB4E-11AB-4A13-B7FA-D8035A6565D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B97C-DE84-406D-BF43-B133086E954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 Introduction to NETS*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uillayute Valley School Distri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une 20, 2005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standard are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Operations and Concep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, ethical and human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Productivity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Communic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Research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Problem-Solving and Decision-Ma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ndard area descri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3: Technology Productivity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using technology to enhance learning, productivity, creativ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other words, students use technology to learn more, get more done, and demonstrate it in creative way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collaborate with others on projects and public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performance indicat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use technology tools to enhance learning, increase productivity, and promote creativ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gh School students know how to successfully take online cour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academic content ar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online courses are subject specif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glish, math, history, and science courses available online and each requires a subject specific set of skills to be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disciplinary Instructional Un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online courses interdisciplinary by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History of Women in Music, Aerodynamics/Model Plane Building (uses math, science, and applied technology skill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asurement of student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d product Proof of Learning (PO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ily online log-ins, completion of assignments, jour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ity and creativity of student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 assessments and student refl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1:06:54Z</dcterms:created>
  <dc:creator>Susan Brooks-Young</dc:creator>
  <dc:description/>
  <dc:language>en-US</dc:language>
  <cp:lastModifiedBy>Steve Quick</cp:lastModifiedBy>
  <dcterms:modified xsi:type="dcterms:W3CDTF">2005-06-20T17:53:36Z</dcterms:modified>
  <cp:revision>7</cp:revision>
  <dc:subject/>
  <dc:title>Enter the Type of Standards here (e.g., NETS*S)</dc:title>
</cp:coreProperties>
</file>