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1E0A-B50E-4C03-A0D7-DB0CD868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4AE-E694-4EB7-B4A0-4839E159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670-B1D1-4970-A6EA-EECBF5B6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2902-30C4-47B7-B82D-DE66AE6A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BB58-FDE6-4C26-8FFD-282ADF8D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1C8C-BA5D-4691-9D5E-E1005A5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515D-3F32-4287-B8FD-5CBAE9C1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8AFD-26C7-48CA-B1D6-53470AD0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F4E-2DCB-48E2-A4C8-3CF4E8FB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F036-9E7B-4C89-8559-DE7EA3D5C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A201-8A6B-464C-BCF5-1755BA04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16B-62AB-4E55-92F4-99E80FB2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3985-5414-4B98-9901-18CE477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4C46-E26B-4210-936B-B0F7E20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B2EB-5EFB-4A45-AE86-6FB260F7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ECD-2B49-4052-A472-A052BC00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4013-92CF-4314-8D11-DBCA6DB2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A99-0840-44ED-87F9-335AF5D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6DA-24CE-4975-AE18-20EEA13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211-C6F9-4F01-A7C9-B350B7DB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DF4-34AD-404E-8F54-751528DA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2CC-6DE7-4FE2-A68E-2CC27F20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752-5026-4A27-8D88-7FB4F5FF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5C8-DC45-4AC2-B6C6-F8571C82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276-36D2-4B2A-AD51-A7B933266B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DED4-D2AF-4D83-BEE4-15351F42547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illayute Valley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ne 20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and Designing Learning Environments and Exper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ing, Learning and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 and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 and Professional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, Legal and Huma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area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 and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s use technology to: evaluate student learning, interpret results from assessment tools, and evaluate student use of technolo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methods of evaluation to determine student use of tech resources for learning, communication,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-line research assignment – Stud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critical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eb-based research 2+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rubric and assess quality of each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organizational tool for research “nuggets” (i.e.: Inspiration), add facto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PowerPoi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 rubric to assess PowerPoint (presentation mode and information m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blog site for student responses to the PowerPoint, read/interpret 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assess project via Word Document to te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dividual Content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Studies Research Top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ce “Big Questio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/Literatur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disciplinary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cano Research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Volcano and Type of Volc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wnload an eruption cl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a timeline of volcano’s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 illustration of volcano in 200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/write a volcano my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asuring Teacher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er assessment of student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lity of student assessment of projec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udent data on sites for future cl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er team assessment of student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6-22T17:29:54Z</dcterms:modified>
  <cp:revision>6</cp:revision>
  <dc:subject/>
  <dc:title>Enter the Type of Standards here (e.g., NETS*S)</dc:title>
</cp:coreProperties>
</file>