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5A2E-FD8A-4023-A7D7-DFBFB70E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26C8-3A08-4720-B915-318BDC6B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348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3C6-E914-4B1F-A9BC-0FF121B5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6592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7428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2B3-EB18-49E6-92C6-8682F8EE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8BED-C45E-479C-9FA8-D2D9F0CD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5E03-0750-4DB6-A0FE-DB7A8016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792-0002-4419-89A9-06D1941C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2DC4-4622-49F7-B145-10A3E0EE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E8BA0-19F3-4532-A769-59A3687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83680"/>
            <a:ext cx="8305920" cy="53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B5E0-B403-4C74-9955-DBBDA287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B381-89F0-4703-BAC2-B31A5086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635-052E-459C-830E-5D95B462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71348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E94E-887E-4A64-B70B-5405C6B5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39DB-02A4-4BC6-8DE3-22996A19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461-2EF1-4A0C-A69E-FBD1C301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71348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001-0E8C-4EA2-AB99-2B7D98EA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6592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4280" y="379224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4B3-BBFD-4F22-9E34-839244075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180-1560-4CB9-B2D6-BF392CFC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0A8-0377-4713-B296-4CCB49D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2F9-3B63-468C-B725-CFC08A4F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83680"/>
            <a:ext cx="8305920" cy="53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99F-30A3-438D-81E7-E36F7BA8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3DE-2FF4-4156-9CBD-A74AC69E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3480" y="379224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721-A9F6-411F-87EB-625ADBC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8DE-E536-42FE-896B-E3076D42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52280"/>
            <a:ext cx="8913600" cy="6631200"/>
            <a:chOff x="76320" y="152280"/>
            <a:chExt cx="8913600" cy="6631200"/>
          </a:xfrm>
        </p:grpSpPr>
        <p:sp>
          <p:nvSpPr>
            <p:cNvPr id="1" name=""/>
            <p:cNvSpPr/>
            <p:nvPr/>
          </p:nvSpPr>
          <p:spPr>
            <a:xfrm>
              <a:off x="76320" y="384120"/>
              <a:ext cx="8688240" cy="6399360"/>
            </a:xfrm>
            <a:custGeom>
              <a:avLst/>
              <a:gdLst/>
              <a:ahLst/>
              <a:rect l="l" t="t" r="r" b="b"/>
              <a:pathLst>
                <a:path w="5473" h="4031">
                  <a:moveTo>
                    <a:pt x="144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0" y="4030"/>
                  </a:lnTo>
                  <a:lnTo>
                    <a:pt x="5472" y="4030"/>
                  </a:lnTo>
                  <a:lnTo>
                    <a:pt x="5472" y="4008"/>
                  </a:lnTo>
                  <a:lnTo>
                    <a:pt x="5472" y="3787"/>
                  </a:lnTo>
                  <a:lnTo>
                    <a:pt x="240" y="3787"/>
                  </a:lnTo>
                  <a:lnTo>
                    <a:pt x="240" y="3756"/>
                  </a:lnTo>
                  <a:lnTo>
                    <a:pt x="240" y="0"/>
                  </a:lnTo>
                  <a:lnTo>
                    <a:pt x="144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27160" y="152280"/>
              <a:ext cx="8762760" cy="6397920"/>
              <a:chOff x="227160" y="152280"/>
              <a:chExt cx="8762760" cy="6397920"/>
            </a:xfrm>
          </p:grpSpPr>
          <p:sp>
            <p:nvSpPr>
              <p:cNvPr id="3" name=""/>
              <p:cNvSpPr/>
              <p:nvPr/>
            </p:nvSpPr>
            <p:spPr>
              <a:xfrm>
                <a:off x="227160" y="152280"/>
                <a:ext cx="8762760" cy="63979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27160" y="46044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227160" y="69228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7160" y="92376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27160" y="115416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27160" y="138600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227160" y="161784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27160" y="184788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11" name=""/>
              <p:cNvGrpSpPr/>
              <p:nvPr/>
            </p:nvGrpSpPr>
            <p:grpSpPr>
              <a:xfrm>
                <a:off x="227160" y="2079720"/>
                <a:ext cx="8762760" cy="1619280"/>
                <a:chOff x="227160" y="2079720"/>
                <a:chExt cx="8762760" cy="16192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227160" y="207972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27160" y="231156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227160" y="254160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227160" y="277344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7160" y="300528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227160" y="323532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27160" y="346716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27160" y="3699000"/>
                  <a:ext cx="876276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" name=""/>
              <p:cNvSpPr/>
              <p:nvPr/>
            </p:nvSpPr>
            <p:spPr>
              <a:xfrm>
                <a:off x="227160" y="416088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27160" y="439272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27160" y="462276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7160" y="485460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27160" y="508644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7160" y="531648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27160" y="554832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27160" y="578016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27160" y="601020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27160" y="624204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227160" y="647388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27160" y="3929040"/>
                <a:ext cx="876276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457200" y="5935680"/>
            <a:ext cx="2362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2971440" y="5935680"/>
            <a:ext cx="3429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6497280" y="5935680"/>
            <a:ext cx="22654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77760" y="152280"/>
            <a:ext cx="8912160" cy="6631200"/>
            <a:chOff x="77760" y="152280"/>
            <a:chExt cx="8912160" cy="6631200"/>
          </a:xfrm>
        </p:grpSpPr>
        <p:sp>
          <p:nvSpPr>
            <p:cNvPr id="74" name=""/>
            <p:cNvSpPr/>
            <p:nvPr/>
          </p:nvSpPr>
          <p:spPr>
            <a:xfrm>
              <a:off x="77760" y="380880"/>
              <a:ext cx="8686800" cy="6402600"/>
            </a:xfrm>
            <a:custGeom>
              <a:avLst/>
              <a:gdLst/>
              <a:ahLst/>
              <a:rect l="l" t="t" r="r" b="b"/>
              <a:pathLst>
                <a:path w="5472" h="4033">
                  <a:moveTo>
                    <a:pt x="143" y="0"/>
                  </a:moveTo>
                  <a:lnTo>
                    <a:pt x="0" y="0"/>
                  </a:lnTo>
                  <a:lnTo>
                    <a:pt x="0" y="33"/>
                  </a:lnTo>
                  <a:lnTo>
                    <a:pt x="0" y="4032"/>
                  </a:lnTo>
                  <a:lnTo>
                    <a:pt x="5471" y="4032"/>
                  </a:lnTo>
                  <a:lnTo>
                    <a:pt x="5471" y="4010"/>
                  </a:lnTo>
                  <a:lnTo>
                    <a:pt x="5471" y="3789"/>
                  </a:lnTo>
                  <a:lnTo>
                    <a:pt x="239" y="3789"/>
                  </a:lnTo>
                  <a:lnTo>
                    <a:pt x="239" y="3758"/>
                  </a:lnTo>
                  <a:lnTo>
                    <a:pt x="239" y="0"/>
                  </a:lnTo>
                  <a:lnTo>
                    <a:pt x="143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28600" y="152280"/>
              <a:ext cx="8761320" cy="6477120"/>
              <a:chOff x="228600" y="152280"/>
              <a:chExt cx="8761320" cy="6477120"/>
            </a:xfrm>
          </p:grpSpPr>
          <p:sp>
            <p:nvSpPr>
              <p:cNvPr id="76" name=""/>
              <p:cNvSpPr/>
              <p:nvPr/>
            </p:nvSpPr>
            <p:spPr>
              <a:xfrm>
                <a:off x="228600" y="152280"/>
                <a:ext cx="8761320" cy="64771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28600" y="46512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28600" y="6984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8600" y="93348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8600" y="116676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8600" y="140184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28600" y="163512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8600" y="18684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28600" y="2103480"/>
                <a:ext cx="8761320" cy="1638360"/>
                <a:chOff x="228600" y="2103480"/>
                <a:chExt cx="8761320" cy="16383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28600" y="210348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28600" y="233676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28600" y="257184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28600" y="280512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28600" y="304020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28600" y="327348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28600" y="350820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28600" y="3741840"/>
                  <a:ext cx="8761320" cy="0"/>
                </a:xfrm>
                <a:prstGeom prst="line">
                  <a:avLst/>
                </a:prstGeom>
                <a:ln cap="sq" w="1260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28600" y="42102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8600" y="444492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28600" y="46782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8600" y="491328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8600" y="514656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8600" y="53802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8600" y="561492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8600" y="584820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8600" y="608328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600" y="631656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28600" y="655164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8600" y="3976560"/>
                <a:ext cx="876132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dt" idx="4"/>
          </p:nvPr>
        </p:nvSpPr>
        <p:spPr>
          <a:xfrm>
            <a:off x="38088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5"/>
          </p:nvPr>
        </p:nvSpPr>
        <p:spPr>
          <a:xfrm>
            <a:off x="29718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6"/>
          </p:nvPr>
        </p:nvSpPr>
        <p:spPr>
          <a:xfrm>
            <a:off x="640080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echnic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echnical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echnic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echnical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chnic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echnical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chnic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echnic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chnic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echnic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echnic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Your school’s nam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Staff Meeting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Presenter’s name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Add agenda items here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Announcements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Add announcements here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First Item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Important points to cover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Second Item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Important points to cover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Third Item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Important points to cover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Fourth Item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Important points to cover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00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echnical"/>
              </a:rPr>
              <a:t>Fifth Item</a:t>
            </a:r>
            <a:endParaRPr b="0" lang="en-US" sz="4400" spc="-1" strike="noStrike">
              <a:solidFill>
                <a:srgbClr val="003366"/>
              </a:solidFill>
              <a:latin typeface="Technic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echnical"/>
              </a:rPr>
              <a:t>Important points to cover</a:t>
            </a:r>
            <a:endParaRPr b="0" lang="en-US" sz="3200" spc="-1" strike="noStrike">
              <a:solidFill>
                <a:srgbClr val="003366"/>
              </a:solidFill>
              <a:latin typeface="Technic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3:03:29Z</dcterms:created>
  <dc:creator>Susan Brooks</dc:creator>
  <dc:description/>
  <dc:language>en-US</dc:language>
  <cp:lastModifiedBy>Susan Brooks</cp:lastModifiedBy>
  <dcterms:modified xsi:type="dcterms:W3CDTF">2003-01-24T19:59:13Z</dcterms:modified>
  <cp:revision>2</cp:revision>
  <dc:subject/>
  <dc:title>Your school’s name Staff Meeting</dc:title>
</cp:coreProperties>
</file>