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706E-C2A4-4477-B630-6702EB99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…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ilding a shared vision and a collective commitment to act in ways that advance that vision is one of the most important responsibilities of principals in learning communiti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 York"/>
              </a:rPr>
              <a:t>“…</a:t>
            </a:r>
            <a:r>
              <a:rPr b="1" lang="en-US" sz="1200" spc="-1" strike="noStrike">
                <a:solidFill>
                  <a:srgbClr val="000000"/>
                </a:solidFill>
                <a:latin typeface="New York"/>
              </a:rPr>
              <a:t>can be "loose" on the particular strategies teachers might use to advance the vision, but passionately "tight" on upholding the vision and demanding adherence to the collective commitment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 York"/>
              </a:rPr>
              <a:t>inviting people to collaborate will not create such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 York"/>
              </a:rPr>
              <a:t>questions convey their priorities and point people in the right 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 York"/>
              </a:rPr>
              <a:t>simply involving teachers in decision making and providing high levels of teacher autonomy will improve a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3F5-327C-48A8-A7CB-C84B80D0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238-751A-4244-969A-7FA23AF1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721-2417-48EC-A2E6-A88689CD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2C5-9805-417E-A83D-42985AE6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04D1-1FA4-460F-B14F-3C624F1E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AA9F-D9FB-4974-B70B-14A7C050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8C68-3590-4F7C-A882-94BE17E5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C6B6-A725-4768-8877-B780BDE8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85A2-4283-4241-9458-04E2413B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6DE3-9449-43D0-B6B9-93279D54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673-4D27-4077-BB44-6F782B8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CFD-E9F5-4686-B129-F3D93A89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CA14-E517-412B-A195-59CADE52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497A-D396-47AD-BF3D-26B8B065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4E1B-5D0A-4D51-A9B8-531D33D8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A001-0D4A-4553-9EE7-B691B321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B852-A837-410D-BBD0-03CAECFF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3E9-E424-4776-BC8D-8B44CCB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BA1-A275-4F42-871A-8605BFCB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278C-CA7E-4032-A04C-A7CF3457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65F-8E0E-4FD2-B50B-45357854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DA4E-34C8-4716-86A4-D9614653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98D-6032-4F93-93A9-BFAF5EC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55C-175E-4899-BA3B-51D26E21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Astonbnr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S.J. Brooks-Young Consul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3BFF-EA18-4AA9-AFC1-BB20FCBCCC1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Astonbnr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68D8-9EDB-45A5-991A-A6688F0E0D40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rtical.org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2080" y="533520"/>
            <a:ext cx="777240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 &amp; Vision: The Administrator’s R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usan Brooks-You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SJBrooks@aol.com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ttp://sjbrooks_young.tripod.com/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TS*A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Support, Management, and Operation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Assessment and Evaluation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-312120">
              <a:lnSpc>
                <a:spcPct val="13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Social, Legal, and Ethical Issue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S*A Leadership &amp; Vision Performance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chnology integration through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hared vi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ystemic plann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ulture of responsible risk-tak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ata-based decision-making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search based practic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dvocac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7120" y="609120"/>
            <a:ext cx="7886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 Responsibilities: As Identified in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ournal of Staff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New York"/>
              </a:rPr>
              <a:t>Lead through shared vision and collective commitments rather than rules and authorit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New York"/>
              </a:rPr>
              <a:t>Create collaborative structures that focus on teaching and learning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 Responsibilities: As Identified in t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Journal of Staff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New York"/>
              </a:rPr>
              <a:t>Pose the questions that help the school focus on issues of teaching and learning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New York"/>
              </a:rPr>
              <a:t>Provide staff with the training, information, and parameters they need to make good decisions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Have a Vi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a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"</a:t>
            </a:r>
            <a:r>
              <a:rPr b="0" i="1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If you do not know where you are going, every road will get you nowhere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."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Arial"/>
              </a:rPr>
              <a:t>- Henry Kissinger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Share a Vi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“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ithout this vision and translation of the vision into action, lasting school improvement is almost impossible.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IR*TEC (2002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120" y="609480"/>
            <a:ext cx="7886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ng your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rt with your vision for the school/district, not a vision for technology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your vision for your school/distric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514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is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your definition of technology integration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7120" y="609120"/>
            <a:ext cx="7886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your Definition of Technology Integration Support your Vi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E03944_" descr=""/>
          <p:cNvPicPr/>
          <p:nvPr/>
        </p:nvPicPr>
        <p:blipFill>
          <a:blip r:embed="rId1"/>
          <a:stretch/>
        </p:blipFill>
        <p:spPr>
          <a:xfrm>
            <a:off x="3581280" y="3048120"/>
            <a:ext cx="295272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are the essential elements that need to be in place to implement your vision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World has Chang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Work is different 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Tools are different 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Communication is different 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Information is different 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Kids are different 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Learning is different 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And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eading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Is Different!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the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30477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ow do you communicate your vision to your staff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ow do you involve your staff in the development of a common vision that includes technology suppor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upportive Environ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2743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ow do you cultivate and nurture innovative uses of technology among your staff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Impacts our Students’ Lives Da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usinesses that do not use available technologies may stay open, but lose their competitive edg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udents in schools that lack either technology, or teachers who are trained to use technology effectively, face a similar disadvantag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sh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Technology can have the greatest impact when integrated into the curriculum to achieve clear, measurable educational objectives." 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CEO Forum 200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sh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A study of a comprehensive effort to integrate technology into schools shows a increase in test scores related to the use of technology.” </a:t>
            </a:r>
            <a:br>
              <a:rPr sz="3200"/>
            </a:b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West VA study, Mann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et al., 199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sh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Students whose teachers were high level users of technology in the classroom scored significantly better than did students whose teachers were low level users of technology in the classroom.”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Middleton and Murray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sho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“…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eadership is probably the single most important factor affecting the successful integration of technology into schools. This is true at all levels- state, district, and schools.”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3333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IR*TEC (2002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ology leadership is not just one more thing for administrators to juggle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21337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8" name="BD07027_" descr=""/>
          <p:cNvPicPr/>
          <p:nvPr/>
        </p:nvPicPr>
        <p:blipFill>
          <a:blip r:embed="rId1"/>
          <a:stretch/>
        </p:blipFill>
        <p:spPr>
          <a:xfrm>
            <a:off x="3809880" y="3505320"/>
            <a:ext cx="281952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TS*A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2819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Leadership and Vision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Learning and Teaching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Productivity and Professional Practice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san Brooks-Young</cp:lastModifiedBy>
  <dcterms:modified xsi:type="dcterms:W3CDTF">2003-10-18T21:35:03Z</dcterms:modified>
  <cp:revision>18</cp:revision>
  <dc:subject/>
  <dc:title>Leadership &amp; Technology.com The 21st Century School Administrator</dc:title>
</cp:coreProperties>
</file>