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55DE-B55C-4178-A233-81249AEE2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ABCE-439F-4BA7-BA62-EA2D1BDDA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E5D5-EBDC-447E-8875-771FB5970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73D3-6833-4B04-ABA7-2C1CA9C26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54017-4E90-4E27-8B10-EC07E3396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64756-6F0B-4A5F-8C8E-30F07DBB7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1E2A5-0395-40CD-B9F7-09B525946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F2031-DE4E-4BA9-A014-E47DDDBBA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CB031-8DFD-44D1-9BC3-3C27BD0E9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D5ACC-7DF0-4698-81FE-F30CFA814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6C969-13C4-4633-BF6F-80EC4F73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1061-8ED6-4A19-8D3B-DF6B2D241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CDC20-C75E-4E4E-AA2E-90AC0FB6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5F4E6-AD73-44E9-B5CA-E1E1BCD59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9EFE0-EE57-4F43-BB2A-7385A0DD9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2E179-FC0E-4C0C-A68E-AC1340463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3243B-E137-4695-86A8-11B2C7E95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35A5-A423-4869-8038-E8F31EF31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2FDD-51AB-4F5A-B79D-095F54E42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AB7D-4F23-4306-BA42-90BDCD008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0C84-85CC-458C-AE29-216DED28A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23FB-F03C-40EA-9729-65CB7066F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2EF8-A86A-4781-AEEF-CE380CC48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E4DD-5978-4661-A9FE-0B01CEDB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1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2" name="hokusai2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8471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5142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0958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832DC-9539-4308-8585-563B058BF18D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45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46" name="hokusai2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1920" y="990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01956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F7FEF-66A3-4EEE-9881-68E0F549E62B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ALGUMAS LEITURAS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47920" y="2743200"/>
            <a:ext cx="64767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DARWIN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DESMOND MORRI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KONRAD LORENZ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WILSON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QUE ESPERAMOS DO MÉDICO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2743200"/>
            <a:ext cx="83818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RESPEITO PELO DOENT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QUE A RELAÇÃO C/ O DT SEJA GRATIFICANT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BALANÇO ENTRE COMPÊTÊNCIA E COMPAIX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HX E EXAME FÍSICO SÃO A BAS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AS TÉCNICAS SÃO COMPLEMENTARE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O COMPUTADOR NÃO SUBS. A RELAÇ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A RELAÇÃO MÉDICO-DOENTE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279440" y="3165480"/>
            <a:ext cx="526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O PODER DO MÉDIC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VERSU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A VULNERABILIDADE DO DOENT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OBJETIVOS DA HX E DO EXAME FÍSICO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77760" y="2705040"/>
            <a:ext cx="6915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d2525"/>
                </a:solidFill>
                <a:latin typeface="Times New Roman"/>
              </a:rPr>
              <a:t>ENCONTRAR INFORMAÇÃO QUE LEVE AO DIAGNÓSTICO E RX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d2525"/>
                </a:solidFill>
                <a:latin typeface="Times New Roman"/>
              </a:rPr>
              <a:t>DAR INFORMAÇÃO AO DOENTE SOBRE O SEU ESTADO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d2525"/>
                </a:solidFill>
                <a:latin typeface="Times New Roman"/>
              </a:rPr>
              <a:t>NEGOCIAR COM O DOENTE O TRATAMENTO : NÃO IMPOR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d2525"/>
                </a:solidFill>
                <a:latin typeface="Times New Roman"/>
              </a:rPr>
              <a:t>ACONSELHAMENTO DE PREVENÇÃO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ONTEXTO ÉTICO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59480" y="2327400"/>
            <a:ext cx="611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AUTONOMI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BENEFÍCIO (PATERNALISMO NÃO)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NÃO MALEFÍCIO (PRIMUM NON NOCERE)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UTILITARISM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SENSO E JUSTIÇ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IMPERATIVOS DEONTOLÓGICO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3640" y="5451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BARREIRAS DE COMUNICAÇÃO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11880" y="2022480"/>
            <a:ext cx="671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APRESENTAÇÃO DO MÉDIC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DIFERENÇAS DE LINGUAGEM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MOBILIÁRI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DISPONIBILIDADE PARA ESCUTAR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FLEXIBILIDAD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CLAREZ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SUBTILEZ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EVITAR JULGAMENTOS DE VALOR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ESTADOS EMOCIONAI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ULTRAPASSAR AS NOSSAS IDIOSSINCRASIA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79440" y="590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ESTRUTURA DA HX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1600" y="2479680"/>
            <a:ext cx="5843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LOCAL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IDENTIFICAÇ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QUEIXA PRINCIPAL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PROBLEMA ACTUAL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HX MÉDICA PASSAD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HX FAMILIAR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HX SOCIAL E PESSOAL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REVISÃO POR APARELHOS E SISTEMA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EXAME FÍSIC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QUESTÕES SENSIVEIS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87720" y="2403360"/>
            <a:ext cx="3509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HUMANIZAÇÃO DA HX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TOXICODEPENDÊNCI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VIOLÊNCI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RELIGI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ETNICIDAD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HISTÓRIA SEXUAL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1T22:02:08Z</dcterms:created>
  <dc:creator>FRG</dc:creator>
  <dc:description/>
  <dc:language>en-US</dc:language>
  <cp:lastModifiedBy>FRG</cp:lastModifiedBy>
  <dcterms:modified xsi:type="dcterms:W3CDTF">2001-10-01T22:48:19Z</dcterms:modified>
  <cp:revision>1</cp:revision>
  <dc:subject/>
  <dc:title>ALGUMAS LEITURAS</dc:title>
</cp:coreProperties>
</file>