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4F5-4A8A-4E42-9AE8-76FECEA5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16B-B24F-4B65-8298-3BF95086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48D-11E7-49DD-8A26-92A29713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101-D19C-4A17-A4E4-167373FE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24D4-FCC8-4380-B03E-6FFFA409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14CD-3E2E-49B8-88BC-2A0D0B4D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4C22-A764-4B82-B8A1-5493C3C1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642E-767C-4DD6-98D4-E3F13298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2760-DE23-4C4B-954E-3396505D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4674-64FA-41E0-AFDC-506E97BB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6F92-68AA-4245-B2A9-4B77BD36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5C0-54D4-4604-8CBA-928723DB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AE5E-61C2-4D95-BA95-FE8B4728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6B37-E7D5-42ED-BF39-CEF03940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709D-F360-451B-8087-AF8DD625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7CFB-B468-493D-B0CD-11DF0C0D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F874-D2A9-4D1A-86F9-9E662AEA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C49A-36D5-4AC4-94DC-C98B2BE6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EC2-52EA-41D7-BDAE-E8D29E1D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BDC-0661-40E2-B369-82A427A4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686-BFDE-4B2D-82DD-1B2F2DB7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39D-FB3D-452D-AD5C-E888D814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243-391A-47EA-ACF7-FFE24E25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F5A-F388-40E3-B59E-8C3FF46B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71F1-CD71-406E-8D1D-E9B4484EB36E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5C54-C9F3-43D0-87AF-F508B531A875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21120" y="30132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JUSTIÇ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NTECEDENT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4800" y="2251080"/>
            <a:ext cx="642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IRURGIA CARDÍACA, INTERNAMEN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EBRE REUMÁT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CTORES DE RISCO CARDIOVASCULA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ENÇAS CRÓNIC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ABAQUISM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STADO NUTRICION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VALIAÇÃO PSICOLÓG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LAXAMEN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CTIVIDADE FÍS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HX FAMILIA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80280" y="2403360"/>
            <a:ext cx="3189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ABET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Ç CARDÍA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SLIPIDEM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IPERTENS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ÇS CONGÉNIT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ORTE SÚBIT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CTORES DE RIS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R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4000" y="2251080"/>
            <a:ext cx="310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R TORÁC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DIG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OSS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SPNE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ONTRATUR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RES NAS PERN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ÍNCOP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OR TORÁCIC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2280" y="2133720"/>
            <a:ext cx="7802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ÍCIO E DURAÇÃO: SÚBITA OU GRADU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ÍCLICA, RELAÇÃO C/ ESFORÇOS,C/ REPOUS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MOÇÕES, REFEIÇÕES, TOSSE E FR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ACTER:PONTADA, FACADA, QUEIMOR, PRESS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AL DO PUNH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OCAL E IRRADI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VERIDADE E INTERFERENCIA C/ ACTIVIDAD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TOMAS ASSOCIADOS: ANSIEDADE, DISPNE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UDAÇÃO, TONTURA, NÁUSEA, VÓMI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IANOSE, PALIDEZ, TEMPERATUR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RATAMEN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OR TORÁCIC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20" y="1870200"/>
            <a:ext cx="7239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DÍACA: ANGINA, ENFARTE, PROLAPS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ÓRTICA : DISSEC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USCULOESQUELÉTICA: NEVRITE, ARTRI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XIFODÍNIA, CONDRI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LEUROPERICÁRDICA: PERICARDITE, PLEURIS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NEUMOTÓRAX, EMFISEMA MEDIASTIN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GESTIVA: HÉRNIA, ESOFAGITE, ESPASM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OLECISTITE, ÚLCERA, PANCREATI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ULMONAR: PNEUMONIA, EMBOL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SICONEURÓTICA: DROG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OR TORÁCIC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7600" y="2209680"/>
            <a:ext cx="7732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ARDÍACA: SUBESTERNAL, PROVOCAD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POR ESFORÇOS, EMOÇÕES, REFEI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LIVIA C/ REPOUSO OU NITRA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SUORES, NÁUSE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PLEURAL: PRECIPITADA PELA RESPIR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 TOSSE, ALIVIA C/ PARAGEM RESP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SOFÁGICA: QUEIMOR, NOCTURNA, DEITAD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LIVIA C/ ALIMENTOS E ANTIÁCI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MUSCULOESQUELÉTICA: MODIFICA C/ MOVIMEN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UMENTA C/ PALP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ADIG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5040" y="2209680"/>
            <a:ext cx="744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SPORÁDICA, PERSISTENTE,GRAU, AO LEVANT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TOMAS ASSOCIADOS: DISPNEIA DE ESFORÇ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R TORÁCICA, PALPITAÇÕES, ORTOPNE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NOREXIA, NÁUSEAS, VÓMI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OSSE E DISPNE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65840" y="2479680"/>
            <a:ext cx="614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LAÇÃO C/ESFORÇOS E POSI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VER AULA DE APARELHO RESPIRATÓR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OR NAS PERNA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6920" y="2362320"/>
            <a:ext cx="7044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ÍCIO, DURAÇÃO, RELAÇÃO C/ IMOBILIZ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ÀCTE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LTERAÇÕES DA PEL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DIG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R À PALPAÇÃO, C/ ESFORÇ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CORDAR À NOI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ÍNCOP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63680" y="2403360"/>
            <a:ext cx="578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LPITAÇÃO, ARRITMIA, C/ ESFORÇ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/ MOVIMENTOS DA CABEÇ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/ MUDANÇA DE POSI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ONVULS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RISE DE STOKE-ADAM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23:14:02Z</dcterms:created>
  <dc:creator>FRG</dc:creator>
  <dc:description/>
  <dc:language>en-US</dc:language>
  <cp:lastModifiedBy>FRG</cp:lastModifiedBy>
  <dcterms:modified xsi:type="dcterms:W3CDTF">2001-12-03T23:14:58Z</dcterms:modified>
  <cp:revision>1</cp:revision>
  <dc:subject/>
  <dc:title>SUGESTÃO</dc:title>
</cp:coreProperties>
</file>