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FCC-2BC6-4624-A8C9-DFC59830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23AA-1117-4493-9835-0793F854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4C6-2C77-4C08-A389-E8481E03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115-AC1E-48A5-AFEF-156F5172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9141-9C5F-4228-9AA7-C5C279E7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B83F-2AA3-40F2-A7BD-3766073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E832-7F51-430E-84B1-80173D86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99EF-E225-4BAE-838B-2CC84FA8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5E88-A93B-4EE2-A493-E9CBE412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BBCA-4C61-48FD-A04C-132359D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D399-5F91-4C64-BAC2-359E868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A13-7999-4D5E-8EE8-A3BC5C75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75C9-C183-4015-B0DE-07A27B69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9952-6B6B-49FF-8638-0498BA1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77FA-CF6B-41D4-A1D7-2E28539C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EE58-BDE7-435F-8B3F-62A459BA3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C367-FC1F-4263-907D-C758177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947-E896-40B3-A119-8358C49A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7F2-7C24-4B8B-8F2C-EE662792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3A9-1B4B-44BD-833E-AFD57DDD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A99-C5C4-4F15-9002-510EC627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948-5C5D-43AE-B0CB-09DBA022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FBA-2044-4AD9-8029-D71352B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84BC-A22A-4EF1-A7BF-BCE49DCE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A8F5-6616-499C-95DC-D797719AC0B7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A1D7-A84C-4230-BF20-7E887E2DD87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4160" y="2251080"/>
            <a:ext cx="423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SSOAL E TRANSMISSÌVE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SF        18 HOR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LOS VAZ MARQU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USCULTAÇÃO CARDÍA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1400" y="2174760"/>
            <a:ext cx="5699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º SO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2º SO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3º SO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4º SO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ALIDO DE ABERTURA DA MIT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ALIDO DE ABERTURA TRICÚSPI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LICK AÓRT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LICK MESOSSISTÓL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USCULTAÇÃO CARDÍA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0280" y="2098800"/>
            <a:ext cx="723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PROS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STÓLICOS, DIASTÓLICOS ...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TO, MESO, TE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JECÇÃO, REGURGI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ESCENDO,DECRESCENDO,BARRA,LOSANG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UDES, SUAVES,PIANTES, MUSIC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RAUS I A VI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ÉM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23:03:59Z</dcterms:created>
  <dc:creator>FRG</dc:creator>
  <dc:description/>
  <dc:language>en-US</dc:language>
  <cp:lastModifiedBy>FRG</cp:lastModifiedBy>
  <dcterms:modified xsi:type="dcterms:W3CDTF">2001-12-11T10:27:47Z</dcterms:modified>
  <cp:revision>2</cp:revision>
  <dc:subject/>
  <dc:title>SUGESTÃO</dc:title>
</cp:coreProperties>
</file>