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502-087E-4D8E-8258-E89247F8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B4E-F105-45D8-81D8-74C15502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BA3-EC19-4CB3-885E-35ECAA92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21B-A96D-4C97-AD8A-D3BFD672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184EF-18C9-4380-9E48-E86E099A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2D06-DCAD-447A-A829-2B54F28A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12CF-5D19-4287-9571-FB847664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3DD3-D692-4BDB-BA43-5703C565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FC64-0245-4151-BCA6-76C6F08C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F5B8-E90C-42D4-8C85-DF4F20F9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2610-FF09-4C04-809C-D079210C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8B5-C47C-44BE-BA32-DFFF544C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47DA-EE20-40A3-8DD8-076C8981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87CC-4B06-44CD-B0DF-524A96D3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34A7-69AA-486F-AF7D-AA840B80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5EDD-2747-46E1-8CFF-CC78514F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DB95-4817-4CE3-9C8A-7C19D503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09A-D31E-4E75-A212-783F3FE7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2605-D809-44E2-8690-608993BE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F21-7B3F-46D6-B054-988B235B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66A-82C2-4528-A021-56EAF954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A30-F44A-4056-8FD4-7824B07D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A38-32C3-4E59-A647-19478A63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187C-D1F4-4064-9366-B81D11A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96F1-1324-4DF1-904C-4CA4D3237692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864E-2894-45B4-8E40-87B1495C474B}" type="slidenum">
              <a:rPr b="0" lang="pt-PT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UGESTÃ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38560" y="2251080"/>
            <a:ext cx="365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ALDOUS HUXLEY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UTOPIA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BRE A DEMOCRACIA 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 OUTROS ESCR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USCULTAÇÃO CARDÍAC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0280" y="2098800"/>
            <a:ext cx="723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OPROS :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SISTÓLICOS, DIASTÓLICOS ....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PROTO, MESO, TELE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EJECÇÃO, REGURGITAÇÃ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CRESCENDO,DECRESCENDO,BARRA,LOSANGO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RUDES, SUAVES,PIANTES, MUSICAI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GRAUS I A VI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FRÉMITO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0:16:15Z</dcterms:created>
  <dc:creator>FRG</dc:creator>
  <dc:description/>
  <dc:language>en-US</dc:language>
  <cp:lastModifiedBy>FRG</cp:lastModifiedBy>
  <dcterms:modified xsi:type="dcterms:W3CDTF">2001-12-18T10:17:27Z</dcterms:modified>
  <cp:revision>1</cp:revision>
  <dc:subject/>
  <dc:title>SUGESTÃO</dc:title>
</cp:coreProperties>
</file>