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78E-BA8C-4014-885F-7B1E9FF7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4CA-B95D-4158-A2A0-91E70AC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E56-C8F6-41B7-BD1C-99156CD2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48F-1BB3-4B97-883E-4F97AF1E9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BF9-75F9-4ADF-A2D3-6A29424A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93A9-75D4-43E1-9DFA-079A91C5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FF80-E2DB-405F-8A52-AE8E883F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0975-D6DD-4259-A9AC-E9AA3BF7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EBA2-DA63-4292-BE07-2DFA6070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7A67-C2EB-4E14-8C57-0EB47168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A6F3-E838-4547-9616-16EC9FFC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A40-FCDF-4E24-A759-16D600AC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F886-BCAB-4DBA-AB6B-6DBB2004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7681-4CF8-4AD2-A526-F34B7622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AAA7-B8F3-414E-A922-BBC3F70E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EBFF-E085-4633-A5F4-C21900CD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AC89-C6F3-4E80-A863-18629DE7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8C1-286C-4E23-88EC-8AF58D67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DF07-67F4-45D9-A13C-A826E7D1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C81-2437-4EF1-880D-9ED85CD5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A79-27F8-4473-AB11-E103FE35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563-3C52-4A4D-9F6C-25503A12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CAA-19DC-43CA-8932-F8BB30CC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493B-4AD2-4860-AD74-360E963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0224-054B-4E16-9C44-DB0805EEFE7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614B-9036-4615-BB89-D30AD4CA7C9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7640" y="286056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New England Journal of Medicin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parelho Cardiovascula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1480" y="2403360"/>
            <a:ext cx="3309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valiação por patologias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valvu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ericárd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miocárd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umor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9:58:03Z</dcterms:created>
  <dc:creator>FRG</dc:creator>
  <dc:description/>
  <dc:language>en-US</dc:language>
  <cp:lastModifiedBy>FRG</cp:lastModifiedBy>
  <dcterms:modified xsi:type="dcterms:W3CDTF">2002-01-08T09:59:10Z</dcterms:modified>
  <cp:revision>1</cp:revision>
  <dc:subject/>
  <dc:title>SUGESTÃO</dc:title>
</cp:coreProperties>
</file>