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AA32-838C-44C4-AD71-0ED5BC4F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FE4-DFB2-47C1-8C45-606DE18B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AE8-4C33-4309-965E-011EE3DCC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A76-A94E-4AF4-B51B-F1BBB106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D998-4DF6-498A-A11F-011D9A06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63D2-AD77-49F1-BAF2-B746C14D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74BC-3650-47A4-BD65-A4114059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4073-E0EF-4920-BBB6-69DD329A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801F-61AC-4A67-9DCA-FEE1A240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56EC-DDE3-4432-89C0-6D1CCDC2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154D-2B05-4DF5-9510-FD4503DC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FCB-F859-4D2F-A46A-D12F3B31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443D-F305-4A5F-9E1B-68A20DA9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2A69-1B4C-4505-8475-D43D1ADF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62A2-E1B4-46A9-87A8-6037F480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39D9-AA92-4841-8AF4-00F4FF27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B0B5-BF72-4C64-8289-85776254B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7F8-8262-430F-BA5D-63A42CA91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903C-A0D5-41BE-B623-5875F1A0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294-0E28-4A11-AED8-075CA840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9A4-A6D8-4258-88B2-457CF6A2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974-95FA-47A0-BC22-E1B26120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4733-5BC1-4455-A0F3-CEEDAA55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D5A-3029-41B6-A14D-F2690049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C7F0-0494-4670-A267-82BD695F7750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0200-2094-4F6A-91F6-66359956ADCD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65120" y="2708280"/>
            <a:ext cx="48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 CE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JOSÉ MAURO DE VASCONCEL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CTERÍC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89160" y="1717560"/>
            <a:ext cx="655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ICIO E DU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OR DAS FEZES E DA URIN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SS. C/ DOR ABDOMINAL, ARREPIOS, FEBR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EPATI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ÃO: ACETOMINOFEN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ISÚR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83880" y="2556000"/>
            <a:ext cx="662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ACTER: LOCAL, QUEIMOR, FREQUÊNC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FEC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REQUÊNCIA SEXU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REQUÊNCIA URINÁR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47440" y="2819520"/>
            <a:ext cx="611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UDANÇAS DE VOLUM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SS C/ DISÚRIA, HEMATÚRIA, NOCTU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UDANÇA DO JAC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CONTINÊNCIA URINÁR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7880" y="2514600"/>
            <a:ext cx="742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ACTER: QUANTIDADE, FREQÊNC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ONSTANTE INTERMIT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SS. C/ URGÊNCIA, CIRURGIA, TOSSE, ESPIRR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SCADAS, NOCTURIA, MENOPAUSA, GRAVIDEZ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EMATUR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09600" y="2251080"/>
            <a:ext cx="5856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ACTER: COR, PRINCIPIO, MEIO, FI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. ASS.: DOR, DOR AO URIN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OSSIBILIDADES ALTERNATIV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BDOME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7040" y="2819520"/>
            <a:ext cx="343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VISÃO ANATÓM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QUADRAN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OVE REGI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BDOMEN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INTOMA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50200" y="1905120"/>
            <a:ext cx="414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R ABDOMIN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Á DIGEST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ÓMI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ARRE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BSTIP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CONTINÊNCIA FEC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CTERÍC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SÚ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REQUÊNCIA URINÁ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CONTINÊNCIA URINÁ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EMATÚ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QUILÚ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OR ABDOMINA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8680" y="1828800"/>
            <a:ext cx="7186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ÍCIO, DURAÇÃO, SÚBITO, GRADU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RSISTENTE, RECURRENTE, INTERMIT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ÁCTER, MOEDEIRA, QUEIMOR, FACADA ETC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. ASS. VÓMITO, DIARREIA, OBSTIP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GASES, ICTERÍC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LAÇÃO C/ CICLO MENSTRUAL, INSPI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URINAR, POSIÇÃO, INGESTÃO, TRAUMA,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ACTERÍSTICAS DAS FEZ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ACTERÍSTICAS DA URIN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Á DI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7240" y="2514600"/>
            <a:ext cx="7407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ÁCTER: ENFARTAMENTO, QUEIMOR, APETI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LATULÊNCIA, D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OCALIZAÇÃO, IRRADI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SSOCIAÇÃO: INGESTÃO, QUANT., ALIMEN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ÍVIO, ANTIÁCIDOS, POSI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ÁUSE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VÓMITO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2320" y="2327400"/>
            <a:ext cx="69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ACTERÍSTICAS: NATUREZA, QUANT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REQUÊNC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LAÇÃO C/ REFEIÇÃO ANTERIOR, APETITE,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ARREIA, OBSTIPAÇÃO, FEBRE, CEFALE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RDA DE PESO, DOR, NÁUSE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IARRE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9400" y="2209680"/>
            <a:ext cx="7628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ACT: AQUOSA, COPIOSA, SANGUE, MU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ESENÇA DE MATÉRIA NÃO DIGERID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OMAS ASS: ARREPIOS, FEBRE, PERDA DE PESO,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DE, INCONTINENC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LAÇÃO C/ INGESTÃO, STRES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IAGEN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BSTIP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54760" y="2438280"/>
            <a:ext cx="358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ACT: COR, SANGU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DR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ET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CONTINÊNCIA FECA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84840" y="2708280"/>
            <a:ext cx="558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ACT: REFEIÇÕES, FEZES, TEMP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SSOC. C/ NEO, DÇ INFLAMATÓ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LAÇÃO C DIVERTICULITE, COLITE,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ABE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23:41:01Z</dcterms:created>
  <dc:creator>FRG</dc:creator>
  <dc:description/>
  <dc:language>en-US</dc:language>
  <cp:lastModifiedBy>FRG</cp:lastModifiedBy>
  <dcterms:modified xsi:type="dcterms:W3CDTF">2002-01-15T09:04:35Z</dcterms:modified>
  <cp:revision>2</cp:revision>
  <dc:subject/>
  <dc:title>ABDOMEN</dc:title>
</cp:coreProperties>
</file>