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9033-B249-478E-A483-0E7A8796F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57B3-4F1E-4E09-8474-17EB5C29A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D968-4B37-41DE-A56A-D52226F7C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1BC0-2EA6-4503-86FE-1AEFAD65A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89D55-730F-41FA-BA3B-BE7A65003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7DCDB-5796-4794-B167-6AFAD24DC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6C86E-30E2-4F30-B9F2-5C03034EB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A7177-B817-4D05-BAC1-17AB1D058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A1040-DA58-499E-9CAD-6DE6FE1AC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11EAE-8229-4E85-9DBC-B460B4FBD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0C81A-1884-4CB7-9F61-7CE18F7C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CB44-B645-45E7-8F14-6D4EC91B5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3EE2A-F9F3-40AC-84A7-9665BA8F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68616-057E-4DBC-ADE6-0EDD67C8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A7297-C34B-425D-84D2-AEB77B338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B53C1-E96F-4A58-B1FB-A6AFEDF2B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284B4-5569-47DC-B399-32D014B93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A5C0-078B-4D77-B2B6-569A5C014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AC44-6D99-471C-8EB0-0F2C806C2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B07B-CF00-4D8B-B41E-9F1F11352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9737-9668-4A56-B987-FB87849AF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50B8-761F-4175-A30E-C3292C78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CC4C-5DE7-45D7-8E65-C056C8CC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3BCA-2AE2-4E89-9D74-A32E3BBB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1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2" name="hokusai2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8471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142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0958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301C2-0829-41BA-BE2D-91FC3AB1AA23}" type="slidenum">
              <a:rPr b="0" lang="pt-PT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45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46" name="hokusai2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0195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76A60-EDDD-4B84-8D1C-EE4408FAF5C5}" type="slidenum">
              <a:rPr b="0" lang="pt-PT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SUGESTÃ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34000" y="2784600"/>
            <a:ext cx="390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MOSBY’S GUIDE T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PHYSICAL EXAMINATION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ABDOMEN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18840" y="2556000"/>
            <a:ext cx="515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VALIAÇÃO DE ASCIT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VALIAÇÃO DA DOR ABDOMINAL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PERGUNTA TIP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0880" y="2708280"/>
            <a:ext cx="7090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 AUSCULTAÇÃO DE SIBILOS: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1) APARECE EM INDIVÍDUOS NORMAI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2) APRESENTAM TONALIDADE GRAV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3) SÂO PRINCIPALMENTE INSPIRATÓRI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4) SÃO DEVIDOS A SECREÇÕ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5) APARECEM NA EXPIRA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ABDOMEN 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36040" y="2174760"/>
            <a:ext cx="239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ESTETOSCÓPI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FITA MÉTRIC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MARCADOR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ABDOMEN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35440" y="2174760"/>
            <a:ext cx="4431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S NOVE REGIÕES: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EPIGASTR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UMBILICAL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HIPOGASTR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HIPOCONDRIO DIREIT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HIPOCONDRIO ESQUERD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LOMBAR ESQUERDA 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LOMBAR DIREIT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INGUINAL ESQUERD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INGUINAL DIREIT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INSPECÇÃ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34360" y="2403360"/>
            <a:ext cx="3466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PEL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CIRCULAÇÃO VENOS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CICATRIZ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FORM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CONTORN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MOVIMENT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DISTENSÃO ABDOMINAL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31120" y="2098800"/>
            <a:ext cx="1735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GORDUR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LIQUID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FEZ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GRAVIDEZ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GAZ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BEXIG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CIST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TUMOR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ABDOMEN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05400" y="2174760"/>
            <a:ext cx="302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USCULTAÇÃO: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SONS INTESTINAI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SONS VASCULAR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ABDOMEN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37600" y="2251080"/>
            <a:ext cx="4903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PERCUSSÃO: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TIMPANISM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MACICEZ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TAMANHO DE ORGÃOS SÓLID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LOCALIZAÇÃO DE MASSA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ABDOMEN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57680" y="2251080"/>
            <a:ext cx="3510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PALPAÇÃO : 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SUPERFICIAL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PROFUND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ORGÃ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MASSA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NEL UMBILICAL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PONTOS HERNIÁRI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2T09:02:28Z</dcterms:created>
  <dc:creator>FRG</dc:creator>
  <dc:description/>
  <dc:language>en-US</dc:language>
  <cp:lastModifiedBy>FRG</cp:lastModifiedBy>
  <dcterms:modified xsi:type="dcterms:W3CDTF">2003-02-18T10:42:49Z</dcterms:modified>
  <cp:revision>3</cp:revision>
  <dc:subject/>
  <dc:title>SUGESTÃO</dc:title>
</cp:coreProperties>
</file>