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60D8-679C-4614-B9F6-85D8CAC6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2DDD-489E-4F17-89E4-3EF702CB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390-B9CA-48E6-925A-93A3B4A2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18E5-71AE-46C9-A3F3-85E51514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D3B6-D481-4AE5-8444-002D60AA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D885-8353-4849-A375-17BA117B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3A62-9A06-4E1E-8045-E08012E4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6BA8-6F41-4244-833F-C7D8F6F1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8D8E-5BB7-4B2E-9A04-4CB84CE1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96A0-D289-42CA-B051-EC147D6E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4D52-89D4-4FB6-81C9-DDCE3441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ED4E-E657-4153-96BF-EE7CD28A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67AD-D35B-43F7-8CB0-7C13A457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A9C1-4E76-44AC-B6B9-B4A4F365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0F28-16B7-4822-BFC0-340AD102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B8F4-976F-47DC-8342-553035C33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0C69-8824-4641-97BE-5D4599FF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9C3-60AC-425C-9E4D-2F905A7C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FEF-4F14-48E1-B4CE-D033D7D2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480-C4AC-4AF6-BA38-270F6F76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DA38-40ED-40F6-9FA6-78278D27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D05-4E29-41C0-8A91-2BD3A4DD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312-3AB3-4610-9650-0598D7B9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CEE0-0507-4532-B135-1C592CB3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8EA1-E424-4B67-9EB2-1E25E6764C25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237C-82EB-42BC-BCEE-4D621D3CB4C1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UGEST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42400" y="1870200"/>
            <a:ext cx="3129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HICAG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JACINT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ERNARDO SASSETI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USCULO-ESQUELÉTICO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história passad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26440" y="3013200"/>
            <a:ext cx="208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Traumatism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Cirurg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oença crón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eformidades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USCULO-ESQUELÉTICO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história familia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59600" y="3013200"/>
            <a:ext cx="244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eformidad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scolios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rtri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oenças genétic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USCULO-ESQUELÉTICO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história social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05520" y="2708280"/>
            <a:ext cx="253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Profiss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xercíc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ctividades diári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Pes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ltur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Nutri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Taba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lcoo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USCULO-ESQUELÉTICO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actores de ris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35920" y="3165480"/>
            <a:ext cx="249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Lesões desportiv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Osteoporos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Osteoartri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USCULO-ESQUELÉTICO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xame fís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08040" y="3013200"/>
            <a:ext cx="140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spec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alp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PARELHO MUSCULO-ESQUELÉT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360" y="2327400"/>
            <a:ext cx="249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SS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RTICUL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RTILAGEN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IGAMEN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ÚSCUL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RTICULAÇÕ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2360" y="2860560"/>
            <a:ext cx="2803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Sinartos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sutur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sincondros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nfiartros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sinfis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sindesmos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iartroses (sinoviais)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USCULO-ESQUELÉTICO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roblema actual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800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4920" y="2743200"/>
            <a:ext cx="263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Queixas articular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Queixas muscular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Queixas ósse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raumatism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or nas cost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QUEIXAS ARTICULAR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01920" y="2327400"/>
            <a:ext cx="5734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Rigidez, limitação de movimentos,tamanho,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contorno,rubor,temperatura, tipo de do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ssociação com hora do dia, tipo de mov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traumatismo, metereolog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guda, crónica,súbita,permanente,esporád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Factores calmant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Resposta a tratamen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QUEIXAS MUSCULAR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17440" y="2403360"/>
            <a:ext cx="568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Limitação de mov., paralisia, fadiga, trémul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spasmo,dor,atrof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Factores precipitant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Factores calmant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Resposta a tratamen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QUEIXAS ÓSSEA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18520" y="2403360"/>
            <a:ext cx="6238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ficuldades na postura, dor c/ mov., crepi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eform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ractura,traumatismo recente, mov. Súbito, stres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ós-menopaus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actores calmant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sposta aos tratamen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RAUMATISM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98080" y="2327400"/>
            <a:ext cx="491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ensação no momento do traumatism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ipo de traumatism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or e suas característic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dem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OR NAS COSTA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96280" y="2327400"/>
            <a:ext cx="4821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úbita ou gradu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racterísticas da dor e sua irradi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vento associad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actores calmant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sposta a tratamen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10:16:38Z</dcterms:created>
  <dc:creator>FRG</dc:creator>
  <dc:description/>
  <dc:language>en-US</dc:language>
  <cp:lastModifiedBy>FRG</cp:lastModifiedBy>
  <dcterms:modified xsi:type="dcterms:W3CDTF">2003-02-25T10:16:28Z</dcterms:modified>
  <cp:revision>3</cp:revision>
  <dc:subject/>
  <dc:title>APARELHO MUSCULO-ESQUELÉTICO</dc:title>
</cp:coreProperties>
</file>