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52B-ABBD-49CC-8D43-4C5E6B59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D39-78B5-46B0-8B85-2BF3327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B2D-6036-48F0-A208-C5B522299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6C8-61F0-487A-8260-3DB0D265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8315-1325-402C-A19C-3BDD4AEB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DB0E-F31E-405F-B191-F42327FE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9540-2C83-453A-8164-7D61DC73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349E-2260-4752-9DEF-A462856B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BA9C-6245-4BE5-B53B-4389602F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8E4E-8A53-4D5F-8711-A2620867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5B30-344D-4321-B795-D30E8E8C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F2C-5DE8-49C6-B007-80C98B14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43CE-D7FA-44A4-A6CD-693553C4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8A2C-DFA1-4218-B8E4-02A5B169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EB6D-D045-44AF-9089-B1E08E2B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584B-8541-4738-9EDF-1EC283C2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3358-C1A1-4754-A35A-D1E852AE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15D-4526-4C2A-92A8-735D87FE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DCD-DCD2-4DB7-B127-5A25D9CC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68DC-59F4-446A-AD48-A8FA642A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110-9456-4FFA-8747-9111667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198B-7897-4545-8B3B-75AE57D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CAE-C254-4104-8172-59D01CE9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A06-5490-4656-9F49-D4716A45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F444-7F3C-4406-B27D-1A10F5A5B94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52A6-1D8A-471A-9B59-18F3671F3EB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4520" y="2784600"/>
            <a:ext cx="291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TO DOS FÍS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IL VIC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tecedentes familia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52160" y="2174760"/>
            <a:ext cx="338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oenças heredit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cool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traso ment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pilep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zheim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prendiz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erturbações de equilib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oenças metaból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soci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03000" y="2098800"/>
            <a:ext cx="526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posição ambiental ou profiss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ominância de hemisfér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apacidade de tratar de assuntos pesso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o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e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nsie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ro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CIDENTE VASCULAR CEREBR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32560" y="2251080"/>
            <a:ext cx="318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ACTORES DE RIS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be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iperten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bes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edentar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abaqu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slipide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traceptiv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 famili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nomalias congéni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040" y="1870200"/>
            <a:ext cx="729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1º par    olfac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2º par    vi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3º,4º e 6º  movimentos oculares, reacção pupil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5º par    músculos da face. Sens. Térmica. Reflexo corne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7º par    simetria facial. Id doce e salgado na língu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8º par aud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9º par Id de ácido e amargo. Deglut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10º par simetria do palato e úvula, deglutição, so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11º par Trapézio, esternocleidomastoide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12º par mov. da língua, so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0560" y="2403360"/>
            <a:ext cx="468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unções cerebelares e propriocep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unções sensor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unções moto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flex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7840" y="2022480"/>
            <a:ext cx="789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unções do sistema nervoso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buClr>
                <a:srgbClr val="2d2525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ceber estímulos sensor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buClr>
                <a:srgbClr val="2d2525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dentificar e integrar o processo adapta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buClr>
                <a:srgbClr val="2d2525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ntegrar o SN com o sistema endócr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buClr>
                <a:srgbClr val="2d2525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trolar as funções cognitivas e volunt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5)   Controlar as funções subconscientes e involunt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ARES CRANEAN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02040" y="1946160"/>
            <a:ext cx="230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lfac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pt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culomot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ocle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igéme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bduc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ac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udi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Glossofarínge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Va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spinal acessó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ipoglos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5000" y="2022480"/>
            <a:ext cx="308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vuls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raqueza ou parestes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vuls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6200" y="1981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92080" y="2022480"/>
            <a:ext cx="652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equência de eventos : aura, queda, som, coloração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as mucosas, esfincteres, pós-convul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aracterísticas dos sinto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ipo de a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Nìvel de consci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utomatism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ónus muscul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ós-convul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lação com as actividades di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requ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Medic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76560" y="2098800"/>
            <a:ext cx="331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alidade e intens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ização e irrad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nifestações associad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de alív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quilíbri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1760" y="2590920"/>
            <a:ext cx="285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lan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m pern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pt-PT" sz="4400" spc="-1" strike="noStrike">
                <a:solidFill>
                  <a:srgbClr val="061c62"/>
                </a:solidFill>
                <a:latin typeface="Times New Roman"/>
              </a:rPr>
              <a:t>fraqueza ou parestesi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0640" y="2251080"/>
            <a:ext cx="270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i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áct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s crón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NEUROLÓG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tecedent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55280" y="2251080"/>
            <a:ext cx="456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ningite, encefalite, intox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formidade, anomalias congéni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s cardiovasc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erações neurológ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rurg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3:40:26Z</dcterms:created>
  <dc:creator>FRG</dc:creator>
  <dc:description/>
  <dc:language>en-US</dc:language>
  <cp:lastModifiedBy>FRG</cp:lastModifiedBy>
  <dcterms:modified xsi:type="dcterms:W3CDTF">2002-03-05T10:43:56Z</dcterms:modified>
  <cp:revision>2</cp:revision>
  <dc:subject/>
  <dc:title>SUGESTÃO</dc:title>
</cp:coreProperties>
</file>