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528-277F-4ED8-BE1A-4AA2A65C3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147-1DCB-4268-A201-78DFBE9C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100-81CF-4B98-93D9-18E91829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6B2C-EC2F-4981-BA2A-6D2DE907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6BF6-3BF3-42D1-8785-97217C79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B152-B028-49A7-B453-42379105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C40F-13CA-4B42-A154-8CFF636C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DDAC-D3B2-4D53-AAA2-10F1B069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AA94-856A-4FFF-9D03-E540C237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44F1-F6CD-4EB7-9BCD-CD6D5D5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1A69-F7DF-4224-9AD7-1C8EB530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F616-93C5-4719-BAE9-4B1737A1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CF43-9B78-49C4-8A82-A4CAEFAC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8F32-7F5D-4B17-AC6C-C082A23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5437-CCF2-4AF1-A3E9-194C8247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701A-DC6C-47C7-877E-CCDE17D4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682E-8117-4605-8558-3355F656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C52-1990-452B-B5DC-554B0A09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877-2238-4C5D-AD94-89C5DC75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553-EF80-4899-BC5B-B8DDA79B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F7A-BF04-403F-A87B-48056955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338-A294-44EC-B226-070D50E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247-810B-4F87-88A6-C610754D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70D-764A-4F69-8798-F858EFFA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D46A-19C8-4520-9518-70E9D785760E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7D35-8377-4BD0-8D28-AB83F3DCAAAA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14880" y="2631960"/>
            <a:ext cx="302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 CASA DO DEUS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AMUEL SH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CLÍNI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8760" y="1793880"/>
            <a:ext cx="602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mo arranjar dificuldade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1.deixar o doente à espera muito temp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2.agir apressadam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3.ser superfic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4.não fazer as perguntas tod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5.ignorar as reacções emocion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6.ignorar as pressões a que o doente está sujei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7.deixar transparecer as nossas fraquez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CLÍNI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8960" y="2666880"/>
            <a:ext cx="398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 DOENTE DIFICI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 DOENTE DETESTÀVE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 DOENTE PSIQUIÁTR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 DOENTE INCONSCI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CLÍNI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12360" y="2479680"/>
            <a:ext cx="316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RROS DE REGISTO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LIGRAF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BREVIATUR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GL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CLÍNI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0480" y="2743200"/>
            <a:ext cx="6342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MOS MELHORES DO QUE AS MÁQUIN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UVIMOS, PALPAMOS, VEM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MOS NOÇÃO DO OUT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FÍS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7840" y="2251080"/>
            <a:ext cx="412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BEÇ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SCOÇO          SENTA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RA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SCOÇ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RAX              DEITADO 45º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RA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BDOMEN        DEITA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MBR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MBROS        PÉ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23:07:17Z</dcterms:created>
  <dc:creator>FRG</dc:creator>
  <dc:description/>
  <dc:language>en-US</dc:language>
  <cp:lastModifiedBy>FRG</cp:lastModifiedBy>
  <dcterms:modified xsi:type="dcterms:W3CDTF">2003-03-17T23:04:34Z</dcterms:modified>
  <cp:revision>2</cp:revision>
  <dc:subject/>
  <dc:title>SUGESTÃO</dc:title>
</cp:coreProperties>
</file>