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08E8-66B0-499A-B55E-9D64C70C1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427D-CE81-49A4-90DF-F3C358DA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7E90-FFE4-409D-8609-660CF6BF1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7593-7AA6-4119-A8F9-7B6106AC3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A233-A171-4C0D-8D3C-5F2A28A50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D593-1439-4056-A7FB-BE6A9590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ED45-4C3A-4C8B-9D3C-50E17A31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9FD8-8F9A-401C-B8A2-70D9934E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73CF-828F-4D73-A698-D9428EE0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D7C4-957D-43BE-BD13-109A9975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F15D-EB9E-4BB4-98D5-D1194BD2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116E-4D74-4348-BCB7-78549755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4D19-B7B7-41CA-A8B9-5609CE3D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4B7F-ECAC-463E-91F1-74EC2831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B1EC-CEDB-405F-830F-E62727AA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6879-CEF6-4961-9E9F-1FB35495E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41E2-F539-4B0C-A813-A6622B3C2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1409-6F83-41B0-B25A-13476286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CB26-9E08-4B13-A70F-4EFD4843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7ABD-B414-4097-9396-BB2B6582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8056-75F4-40A0-9E31-67367870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09C2-4E9D-413E-A651-CE993537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F773-43A2-458A-B6F1-2FC0B542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4B26-51C9-4D10-90EB-59A42DC0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7CB8-3AB9-40A9-90DE-FDE6A8362E34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51CE-B71F-40FB-86D5-21C49AB3CF8E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UGESTÃ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38920" y="2174760"/>
            <a:ext cx="325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VERSOS DO CAPIT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ABLO NERUD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VALOR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32200" y="2860560"/>
            <a:ext cx="32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EOREMA DE BAY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00320" y="3657600"/>
            <a:ext cx="19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URVA ROC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ERROS 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43720" y="2205000"/>
            <a:ext cx="241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2d2525"/>
                </a:solidFill>
                <a:latin typeface="Times New Roman"/>
              </a:rPr>
              <a:t>27%</a:t>
            </a:r>
            <a:endParaRPr b="0" lang="en-US" sz="96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PENSAMENTO CRÍTIC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04760" y="2133720"/>
            <a:ext cx="7361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XAME CLÍNICO  ( COLHEITA DE INFORMAÇÃO)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ORGANIZAÇÃO E INTEGRAÇÃO DA INFORM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VALIAÇÃO DA INFORM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LINHAR PRIORIDAD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OPINIÃO CLÍNIC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PENSAMENTO CRÍTIC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39280" y="2479680"/>
            <a:ext cx="5488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INTEGRAR PREFERÊNCIAS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ENTIMENTOS, ATITUDES, VALOR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ROBABILIDADES E RISC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IDENTIFICAR PROBLEM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FORMULAR HIPÓTES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PROBLEM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3480" y="2327400"/>
            <a:ext cx="6380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IAGNÓSTICO INCERT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NOVOS DADOS DE DIAGN. ANTIG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NOVOS DADOS DE CAUSA DESCONHECID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CHADOS POUCO COMUN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IFICULDADES PESSOAIS OU SOCIAI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NORMAL VS ANORMAL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55520" y="2708280"/>
            <a:ext cx="212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NORM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NÓMAL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ARGIN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ATOLÓGIC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OENÇ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MECANISMOS DE COMPENSAÇÃ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37120" y="2936880"/>
            <a:ext cx="236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HOMEOSTAS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LOSTAS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AVALIAÇÃ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62240" y="2174760"/>
            <a:ext cx="4685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ECONHECER PADRÕ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MOSTRAGEM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LGORITM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HUMILDADE ( RECONHECER ....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ROBABILIDAD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UTILIDAD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ESTES COMPLEMENTAR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AUSA -EFEIT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6680" y="2708280"/>
            <a:ext cx="804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S MESMAS CAUSAS INTERAGEM DE FORM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IFERENTE EM MOMENTOS DIFERENT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O MESMO EFEITO NEM SEMPRE TEM A MESMA CAUS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O EFEITO DE UMA CAUSA NÃO PODE SER ISOLAD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VALIDADE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06480" y="2327400"/>
            <a:ext cx="455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ENSIBILIDAD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SPECIFIDAD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VERDADEIRO POSITIV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VERDADEIRO NEGATIV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FALSO POSITIV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FALSO NEGATIV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VALOR PREDITIVO POSITIV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VALOR PREDITIVO NEGATIV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9T00:41:39Z</dcterms:created>
  <dc:creator>FRG</dc:creator>
  <dc:description/>
  <dc:language>en-US</dc:language>
  <cp:lastModifiedBy>FRG</cp:lastModifiedBy>
  <dcterms:modified xsi:type="dcterms:W3CDTF">2004-03-23T11:48:26Z</dcterms:modified>
  <cp:revision>2</cp:revision>
  <dc:subject/>
  <dc:title>SUGESTÃO</dc:title>
</cp:coreProperties>
</file>