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AE0-E105-4382-8A74-BA6CF599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376-2BF8-40A7-B3FD-29675F49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90F-095D-4158-9D75-15B8F69B7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29F-F417-4A4B-8EFA-315D91D7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C20F-CFA2-4202-83E6-1F6CD651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D78F-B75E-441D-8D28-95E8A16B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086C-747A-4048-B922-8816FABA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9631-E614-4081-AA16-500D50B6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0C3E-9F37-4925-998C-971061F1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7CB3-B636-49E0-9A35-78D3D2B8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C50E-22A8-46F9-A0D9-FFB093E2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10C-8D07-4D00-8AE4-BB126E48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FDEB-88C4-40E4-BD66-3E4CD708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FBFD-11CA-4B1C-A89A-85A044FE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686F-F815-4D9D-A5F3-DEA9DED5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E591-05F8-438D-9453-F87440E3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EA0A-4FD7-4D0B-BE09-D276E4CE4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263-D689-446B-9127-F8F9BF0E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D73-AD0C-4508-9186-5ED6DF36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499-E205-4ABE-B480-2B12BA1A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B5E-546B-4862-B62D-77574AC8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AEB-939C-47F8-B35E-26906B70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079F-55F5-4ED2-90F3-6FC1F817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1E6-BF81-4984-8ED1-6704E9B1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8268-F5C4-4EE2-86BA-A24A25537B75}" type="slidenum"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B26F-30F3-48D0-95ED-8A524AEEE371}" type="slidenum"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EDRO E O LOB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STRUMENTO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8360" y="2479680"/>
            <a:ext cx="351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STETOSCÓP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PPLE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FTALMOSCÓP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TOSCÓP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ESTE DE VIS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SPÉCUL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RTEL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GULH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SFIGMOMANÓMETR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ANTERN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STRUTURA DA HX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1600" y="2479680"/>
            <a:ext cx="58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DENTIFIC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QUEIXA PRINCIP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BLEMA ACTU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X MÉDICA PASSAD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X FAMILI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X SOCIAL E PESSO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VISÃO POR APARELHOS E SISTEM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AME FÍS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ULTURA E PRÁTICA MÉDIC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819520"/>
            <a:ext cx="6629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AÇ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EX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LIGI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FISS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: QUANDO DIGO JP,62ANOS,HOMEM,JUDEU,MÉD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VALIAÇÃO CULTURA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040" y="3048120"/>
            <a:ext cx="556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RENÇAS E PRÁTICAS DE SAÚD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FLUENCIAS RELIGIOSAS E RITU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MUNICAÇÃO E LINGUAGE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IPO DE FAMÍL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UPORTE PARA ALÉM DA FAMÍL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ÁTICAS DIETÉTIC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ULTURA E VALOR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3760" y="2174760"/>
            <a:ext cx="583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RIENTAÇÃO TEMPOR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RIENTAÇÃO DA AC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RIENTAÇÃO DA NATUREZA HUMAN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RIENTAÇÃO HOMEM-NATUREZ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RIENTAÇÃO RELACIO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EDICINA E OUTRAS MEDICINA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6480" y="2556000"/>
            <a:ext cx="437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EM – M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YIN – YIANG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QUENTE – FRI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ERAPEUTICA DOS OPOS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POTERAP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ÉCNICAS DE EXAME E EQUIPAMENT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7560" y="2362320"/>
            <a:ext cx="5802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AVAR AS MÃ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UV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ÁSCARAS DE PROTEC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ATAS, CAMP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IMPEZA DO EQUIPAMEN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LIMPEZA E DESINFECÇAO AMBIENT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OUP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AÚDE OCUPACIO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OEN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ÉCNICAS DE EXAM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04320" y="2860560"/>
            <a:ext cx="244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SPEC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LP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RCUSS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USCUL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INAIS VITAI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0960" y="2556000"/>
            <a:ext cx="29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ULS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SPIR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ENSÃO ARTERI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S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TUR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MC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ÁREA CORPOR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21:50:31Z</dcterms:created>
  <dc:creator>FRG</dc:creator>
  <dc:description/>
  <dc:language>en-US</dc:language>
  <cp:lastModifiedBy>FRG</cp:lastModifiedBy>
  <dcterms:modified xsi:type="dcterms:W3CDTF">2004-10-12T09:20:00Z</dcterms:modified>
  <cp:revision>3</cp:revision>
  <dc:subject/>
  <dc:title>SUGESTÃO AUDIO   PEDRO E O LOBO</dc:title>
</cp:coreProperties>
</file>