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0D7-B027-4317-A1D8-EF8EC40B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5B5-02AB-4A8B-AF6B-34CECF6C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57FB-4235-48D3-9F51-7683AD23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E59-C82C-416F-9DF8-DF873D85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6F5E-2338-4483-9817-8D1BF8D2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DC39-8C77-4A2A-9CD9-455D578B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46F3-A7EB-4993-A9FD-7F5BF9F5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59F1-C9EF-40D7-9A9A-7B5F2F1C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C835-9C2C-43CF-8B8A-1779E2FB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6DE2-D33A-4125-B731-3C2A766C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B99D-AB00-4834-9D89-EF06238C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CDC-CDA9-4D80-AB71-095C2856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D8E5-42F8-441C-A368-B511E287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9F90-9AA8-4CD1-9D69-A915DE1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B0DF-E7FD-4754-9DFE-1F411ED0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F2C0-0D76-4DBB-AADC-0CE9C570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8038-2746-4BC0-80F9-5E6AE40D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7585-4C13-44CC-8BA1-8966DF50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ABF-7EC8-43E4-B9DB-CC25D2DF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932B-2ED9-418C-9419-1F70B655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9A0-E38D-4F4B-B5E7-19237CB5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9C3-EDE1-4DCE-A06F-39611956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4AFA-E187-43D5-9A7D-C8B1804E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073-6D6F-4A4F-9CBC-3B7C7B0F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D879-B736-4F91-890F-E9EA39CCF943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C965-C5C1-41BC-803B-4ED766EBB8A7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73160" y="27846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ATIONAL GEOGRAPHI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1320" y="2784600"/>
            <a:ext cx="246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I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blemas visu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Ócul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entes de contac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cuidade vis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77520" y="2556000"/>
            <a:ext cx="4568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RTOPÉD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raumatismos prévi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lterações com sinais inflamatóri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umor, rubor, d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 de Garrick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28120" y="2327400"/>
            <a:ext cx="41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SICOSSOC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ontrole do peso e auto imag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tress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Uso de alcool ou drog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tenção aos sinais de nutr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97720" y="2403360"/>
            <a:ext cx="5074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GENITO-URINÁ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Idade da menarca e períodos menstru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alpação do abdome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alpação dos testícul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 dos canais inguin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ECLA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040" y="1717560"/>
            <a:ext cx="698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 u, abaixo assinado, ..., céd. prof . Nº ..., declaro p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minha honra que .......se encontra apto para a prática de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esporto.....  sem (com) restricções.Por ser verdade 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me ter sido pedido passo a presente decla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que dato e assi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  87/76/8976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kjftdfydd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7280" y="2327400"/>
            <a:ext cx="5558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Identificar situações que interferem co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 prática desportiv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Identificar situações de risco aumentado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e morte ou injú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judar a compatibilizar o tipo de activ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esportiva com as capacidades de cada u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E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0160" y="2251080"/>
            <a:ext cx="6398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évio  -  a to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riódico  -  desporto competi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tocolo específico  -  desporto federa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rviços médicos próprios  -  desporto profiss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88080" y="2403360"/>
            <a:ext cx="519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AME ORTOPÉDICO DE GARRICK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ame com 14 passos  -  2 minu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62240" y="2631960"/>
            <a:ext cx="365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AME CARDIOLÓG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uls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nsão arter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scul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89920" y="2174760"/>
            <a:ext cx="627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stória Clínica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enças, traumatismos, hospitalizações, cirurg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mentos utiliz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so de equipamento protect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lano de vacin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so e alt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49280" y="2174760"/>
            <a:ext cx="561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ARDÍA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íncope, tontura or dor torácica com esforç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 de hipertensão ou sopr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 familiar de dç cardía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 prévia de impedimento despor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ensão arter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requência e ritmo cardía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ulsos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uscul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2000" y="2708280"/>
            <a:ext cx="377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SPIRATÓ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ma, tosse, sibilos, dispn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MÉDICO DESPORTIV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1440" y="2403360"/>
            <a:ext cx="520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EUROLOG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DE TRAUMATISMO CRANEA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EFALE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22:35:07Z</dcterms:created>
  <dc:creator>FRG</dc:creator>
  <dc:description/>
  <dc:language>en-US</dc:language>
  <cp:lastModifiedBy>FRG</cp:lastModifiedBy>
  <dcterms:modified xsi:type="dcterms:W3CDTF">2002-04-29T22:41:07Z</dcterms:modified>
  <cp:revision>2</cp:revision>
  <dc:subject/>
  <dc:title>SUGESTÃO</dc:title>
</cp:coreProperties>
</file>