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224-D3A0-4683-8D8D-A8D446D7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099-6376-40E5-A751-2930929A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B74-3676-403A-BD6F-A2342430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D6A-1EA0-4336-A53C-5F2A855D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C0FD-DA1F-4D5F-8EDD-33FF804E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A75C-3B77-4E1C-938A-CF7EB1BF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1B94-9494-48AC-B17E-CDEFB759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18B-B7CB-4FA8-BE5B-6FAE28FC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2DD-D6B4-44D3-8E22-45642C9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F7AB-2C26-4D17-AFFC-AE1697CD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C000-6B9C-4DA2-8799-5467B51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787-5F42-42E2-BF15-ACD3A101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3C41-20A3-4AFD-B9EF-F932571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6B4D-8C53-415B-872D-460EB4E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5817-57F4-4A26-B28C-9B0F3196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185-0BAD-463B-AC88-0B1BDBC8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B7D8-D64C-45F4-9DE5-D4602A91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274-7AB8-467F-97E8-660A30CB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36D1-4BF3-457A-9F93-21734930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118-6C29-4938-9230-9CA1A1E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E5A-2087-436E-95CC-0446AD98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D27-82E2-4E40-8D14-9D3780C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81C-0D4E-4513-B85A-4E64E05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F52-431B-4831-8DD8-FF2C22E3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1440-6712-4D73-9156-B7FFE697BA4B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118F-BAA5-4A35-A301-DAB301242CA8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48400" y="2784600"/>
            <a:ext cx="33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DEIA DA REL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TOGRA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30280" y="2631960"/>
            <a:ext cx="18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  airwa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B  breathin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  circula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  disabilit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   exposur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04800" y="1870200"/>
            <a:ext cx="465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bstrução das vias aéreas superio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hoque hipovolém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ipoxe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pilep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rise asmá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ipertensão intracranea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nsuficiência respirató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9080" y="2556000"/>
            <a:ext cx="267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aler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 estímulo verb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 estimulo doloro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 inconsci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65600" y="2403360"/>
            <a:ext cx="255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alerg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 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 doenças passad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 última refe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ev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83360" y="1828800"/>
            <a:ext cx="3813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AL DE BATT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AL DE CULLE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AL DE GRAY-TURN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UNCH HAMMA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AL DE KEH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LHOS DE TEXU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59840" y="2327400"/>
            <a:ext cx="6141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NEIA SÚBITA   EMBOLIA PULMON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MATEMESE          ÚLCERA, VARI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RETROESTERNAL    ENFAR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OCULAR           GLAUCOMA AGU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UZES                         DESCOL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ABDOMINAL    ABDOMEN AGU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DA DE FORÇA    AI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NEIA RUIDOSA   EDEMA AGU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MERG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4800" y="278460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ERENÇAS ENTRE CRIAN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ADUL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22:49:36Z</dcterms:created>
  <dc:creator>FRG</dc:creator>
  <dc:description/>
  <dc:language>en-US</dc:language>
  <cp:lastModifiedBy>FRG</cp:lastModifiedBy>
  <dcterms:modified xsi:type="dcterms:W3CDTF">2002-04-08T22:50:48Z</dcterms:modified>
  <cp:revision>1</cp:revision>
  <dc:subject/>
  <dc:title>SUGESTÃO</dc:title>
</cp:coreProperties>
</file>