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119A-28BE-4608-9B26-BF9EC9C4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296F-5772-4B3D-B418-0BE45551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A282-CB5A-4849-B471-186A5D5B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C2D-A279-4402-A0A2-8387EFAB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B226-E66F-4817-92E5-1219CF28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7997-F3FC-44B3-857C-7D5A8E7C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A659-BEEE-4D79-AC63-0D75A6E4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15AD-8279-4396-AF09-98C382F8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AA6D-C285-4692-AC25-DA97CDA8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84BE-09B2-4BA0-AD0E-05FA5258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A1B0-704F-455B-9195-36993418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C1A-F4EB-4CE5-BF70-4F1B0DBA1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B21B-E869-4EAF-A8C0-EF6F6F4C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5F7B-28F8-4FDA-8597-A6786D50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998D-5F1A-41FA-B33D-7DBF2726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7868-6FF5-480C-8523-E08EA16DB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3890-66DC-4A23-ABB9-0B6AE93E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B541-2203-4CB8-BDB0-53D4E743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00D-CF1B-40A6-A30A-CEB4FBA8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833-3C6D-4297-A9A1-1B326E58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FF0-C728-4020-A0B1-7A8B887E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3791-7283-4103-96F8-13C683A1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A6A4-492F-4F52-A7A0-B2F9C2F8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5CC-47F2-42F0-839B-839DA1BF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3FCE-FE4E-4A67-97CE-7DCC37728185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164D-3EDA-48CB-A34E-59FE01239B18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36040" y="2631960"/>
            <a:ext cx="235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AUDOLIN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UMBERTO E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GISTO DA INFORM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8360" y="2556000"/>
            <a:ext cx="413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RADICIONAL – PAPE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ODERNO – ELECTRÓN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ASES DE D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GISTO DA INFORM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3400" y="2479680"/>
            <a:ext cx="638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NSELHO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ÃO FAZER O REGISTO JUNTO AO DO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IRAR NOT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GISTO DA INFORM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83880" y="2403360"/>
            <a:ext cx="603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GISTAR DADOS POSITIV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EGATIV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UNCA ESQUECER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ICIO, LOCAL, DURAÇÃO, CARACTE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. AGRAVANTE, F. ALÍVIO, F. TEMPOR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VER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GISTO DA INFORM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90120" y="1946160"/>
            <a:ext cx="4382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STÓRIA CLÍN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AME FÍS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ISTA DE PROBLEM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VALIAÇÃO E PLAN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AMES COMPLEMENT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OTAS DE EVOLU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 QUE É UM PROBLE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6360" y="1946160"/>
            <a:ext cx="5650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AGNÓSTICO ESTABELECID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 OU SINAL NOV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QUALQUER ACHADO INESPERAD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FICULDADES PESSOAIS OU SOCI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CTORES DE RIS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CTORES CRÍTIC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VALI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160" y="1946160"/>
            <a:ext cx="566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SENVOLVER UMA AVALI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RA CADA PROBLEM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R ESPECÍF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ÃO USAR TERMOS CO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NTRO DOS LIMITES DO NORM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LAN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37840" y="2022480"/>
            <a:ext cx="438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AMES COMPLEMENT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LANO TERAPEUT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DUCAÇÃO DO DO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NOTAS DE EVOLU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58760" y="2098800"/>
            <a:ext cx="410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BORDAR OS PROBLEMAS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DIVIDUALM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GUIR O FORMATO SOAP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2T22:18:16Z</dcterms:created>
  <dc:creator>FRG</dc:creator>
  <dc:description/>
  <dc:language>en-US</dc:language>
  <cp:lastModifiedBy>FRG</cp:lastModifiedBy>
  <dcterms:modified xsi:type="dcterms:W3CDTF">2002-04-29T21:42:48Z</dcterms:modified>
  <cp:revision>2</cp:revision>
  <dc:subject/>
  <dc:title>SUGESTÃO</dc:title>
</cp:coreProperties>
</file>