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6C75-6A52-44C7-AA4F-B70D1F1B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9EE2-F199-4C22-B9A3-7E54FEE7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20F-0568-4A2E-81F1-30B70B08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87C-5B74-4BEA-8301-FDE9B100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38FC-F83B-4F70-A8CD-3B38CBC2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BA27-BEFD-48E5-A192-54260573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E99-E98D-417E-A4BC-EA28087B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175B-BCE1-4C2A-9ADA-8AAF8A8E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1F8-F3A4-4BDD-B193-A8FBCB9D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915-12E4-4BD6-9924-134F99B6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5BD5-89EA-4E3A-B128-22AD6680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F0C-C724-4AA8-80B9-027C8983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A765-8251-4DC4-B33F-FC712413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D553-FC19-449D-8EF5-C476538E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524B-B1A3-4A66-B377-4F7933F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E0BC-1FB0-4EC2-9E39-01621982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50D-A27C-497E-9B4A-DB2FE870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383-D835-4C74-8D39-3D564D13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FE37-13FD-41F7-9018-37F82F1F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122-8146-45CD-AC85-0025238C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067E-4D99-4B41-BDD4-6CCC052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F29-0E7C-43A7-98F8-08A05568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AFA-7568-4570-A98F-3D329472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82F-1638-4868-9748-74EFE2B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579E-779F-41BE-B08E-E5434B16160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BB5-0C9B-4A91-BC63-48D1C558583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4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365 JOURS POUR LA TER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YANN ARTHUS-BERTRAN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90640" y="24796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odem aplicar-se os resultados ao meu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dividual( será o meu doente tão diferente 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cluídos no estudo que os resultados não lh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ão aplicáveis)? Qual a magnitude do efei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rapêutico no meu doente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97720" y="2631960"/>
            <a:ext cx="542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intervenção respeita os desejos e valo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dividuais do meu doente 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36040" y="3013200"/>
            <a:ext cx="26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ÊNCIA MÉD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RTE MÉD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2000" y="2362320"/>
            <a:ext cx="670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mulação da questão clínica a partir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 problema d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quisa da literatura para selecção de artig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udos relev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crítica da evidência em termos de va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mportância e utilidade prá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mplementação prática da evid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6120" y="2666880"/>
            <a:ext cx="6127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visões sistematizadas e meta-análi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nsaios clínicos aleatorizados e control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nsaios clínicos aleatorizados e controlados s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sultados defini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studos prospec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studos retrospec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asos clínicos e opinião de per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8280" y="2971800"/>
            <a:ext cx="649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 distribuição dos sujeitos pelos grupos de contro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 tratamento foi aleatorizada? E esta aleatoriz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oi adequada (os códigos eram imprevisíveis?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4720" y="2327400"/>
            <a:ext cx="609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dos os doentes que entraram no estudo est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sentes na sua conclusão?E foram analis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ntro dos grupos para que foram inicialm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tribuídos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8200" y="320040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istiu dupla ocultação (doentes e investigadores)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4400" y="2479680"/>
            <a:ext cx="595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s doentes foram tratados de manei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êntica nos dois grupos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cepto no que concerne o objectivo do estu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BASEADA NA EVIDÊN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040" y="2860560"/>
            <a:ext cx="653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s dois grupos possuem características semelh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 início do estudo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1:50:16Z</dcterms:created>
  <dc:creator>FRG</dc:creator>
  <dc:description/>
  <dc:language>en-US</dc:language>
  <cp:lastModifiedBy>FRG</cp:lastModifiedBy>
  <dcterms:modified xsi:type="dcterms:W3CDTF">2002-04-29T22:38:52Z</dcterms:modified>
  <cp:revision>1</cp:revision>
  <dc:subject/>
  <dc:title>SUGESTÃO</dc:title>
</cp:coreProperties>
</file>