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6C7-04F9-4B67-84DD-921D162C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9F0-D76B-4CEE-9088-A0ACA1E8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8EA-1185-4197-9B42-D69D7FE9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2AFF-C541-4B7F-94E7-DFE63991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BCEA3-F357-455E-A8CC-040F7D45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6875-F357-4308-BB6A-3E3CE54F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3334-AA6D-49FA-99FF-D6E94702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A56C-7B96-4B27-B61E-3E9343AF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A5DC-8FBC-4456-9CA4-B2E2F2F0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3EBC-F1BC-4BA8-B812-EF8375C2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3CCB-CFD3-4FF9-AE65-737A1457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F53-D21D-4582-B4FD-E8497325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8C8B-0211-4399-BB5D-F2A585C4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52D1-46CE-4121-B08F-21B93A77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4F25-40F5-4911-A72A-0B608D82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4887-B1AE-46BB-8926-01F8C151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26F1-D5CF-4592-8705-64B900FB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DA9E-D4EB-4109-9B27-DE95E71C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9B86-3965-416E-80F8-70CEA7D3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699-0059-4036-9D64-49526E44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9B2-4BBF-4836-BBAC-1702975D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DE4-C4B1-45FB-8333-36842743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8455-4DC3-4BF4-AF7B-3CAF8F58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95F1-EA6A-4846-BD83-C7D5D644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6F3F-F040-4747-9697-B9F517C329C0}" type="slidenum"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BB4B-3343-4A43-BF11-1BC057A6E6DF}" type="slidenum"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UGEST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32800" y="2631960"/>
            <a:ext cx="178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Terap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avid Lodg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r. Dr.  dói-me a barrig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83640" y="2556000"/>
            <a:ext cx="4518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1ª pergunt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Onde?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2ª pergunt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omo, quando, associado a ...........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ossa ilíaca direit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56360" y="2556000"/>
            <a:ext cx="359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Suspeita princip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apendici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Hx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xame fís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xames complementa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iagnósticos diferenci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ossa ilíaca esquerd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892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80760" y="2479680"/>
            <a:ext cx="3506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Suspeita princip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colon esquerd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Hx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xame fís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xames complementa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iagnósticos diferenci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Hipogastr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57080" y="2556000"/>
            <a:ext cx="3506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Suspeita princip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cisti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Hx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xame fís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xames complementa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iagnósticos diferenci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Umbilical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2560" y="2362320"/>
            <a:ext cx="4437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Suspeita princip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início de processo abdomin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Hx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xame fís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xames complementa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iagnósticos diferenci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61c62"/>
                </a:solidFill>
                <a:latin typeface="Times New Roman"/>
              </a:rPr>
              <a:t>Hipocondrio direit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178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6560" y="2631960"/>
            <a:ext cx="32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Suspeita princip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colecistite agud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Hx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xame fís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xames complementa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iagnósticos diferenci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61c62"/>
                </a:solidFill>
                <a:latin typeface="Times New Roman"/>
              </a:rPr>
              <a:t>Epigastr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61640" y="2556000"/>
            <a:ext cx="327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Suspeita princip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patologia gástr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Hx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xame fís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xames complementa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iagnósticos diferenci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61c62"/>
                </a:solidFill>
                <a:latin typeface="Times New Roman"/>
              </a:rPr>
              <a:t>Hipocondrio esquerd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66560" y="2327400"/>
            <a:ext cx="327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Suspeita princip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         </a:t>
            </a: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patologia do col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Hx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xame fís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Exames complementar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2d2525"/>
                </a:solidFill>
                <a:latin typeface="Times New Roman"/>
              </a:rPr>
              <a:t>Diagnósticos diferenci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19:20:49Z</dcterms:created>
  <dc:creator>FRG</dc:creator>
  <dc:description/>
  <dc:language>en-US</dc:language>
  <cp:lastModifiedBy>FRG</cp:lastModifiedBy>
  <dcterms:modified xsi:type="dcterms:W3CDTF">2002-05-20T21:05:11Z</dcterms:modified>
  <cp:revision>2</cp:revision>
  <dc:subject/>
  <dc:title>SUGESTÃO</dc:title>
</cp:coreProperties>
</file>