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47C-8C96-4AFC-864D-4F477083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C12-C748-4C50-AE68-172960C2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016-7145-468A-81DB-5BED80C8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916-2712-4E6F-956B-1CCF7225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DAB3-8365-4CCE-94A6-341630CF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86AF-0543-4900-B0C3-0AEB50B4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897B-F2DD-46C7-A3D0-A0A82C20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3E3A-651E-4853-94E5-B72617E7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5184-B7D1-4171-9053-B2A21131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08A6-2345-41E9-844F-958438ED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F300-8BB3-4D3D-A9CE-9352EB64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99D-9B56-4CEB-8830-0570AEDB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7EFD-7005-4706-85F7-EBED1EB8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5E9F-EE1A-40A9-971F-6624BB15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CCC9-CCAD-4E77-A821-7A392E8B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2EAE-4D6D-4270-B45D-ABAA6338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6B6B-1C70-405F-96FA-29863850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C54-BA66-44FD-A0EF-93541575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804-A5D4-4A1B-9739-2DD92A87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A30A-B5A2-41EE-98CB-C54381C7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C76-F641-4C7B-B2A6-3C517A49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601-9789-49F7-8186-4DD1732A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113-A045-4728-9266-2657CBF5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06D-6FFC-4733-AB2E-5CED7015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C7D2-522C-457F-9B79-67ED20E19E7B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F9C0-9308-4493-AA97-6BE2742B5FA8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85920" y="362268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 REI, O BOBO E O SÁB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LE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X FAMILIA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9120" y="2708280"/>
            <a:ext cx="484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ÇS DERMATOLÓG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ÇS ALÉRGICAS HEREDITÁR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TRIBUIÇÃO PILOS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LORAÇÃO DA PEL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LE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ISTÓRIA SOCI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7320" y="2438280"/>
            <a:ext cx="6833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ÁBITOS DE HIGIEN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UTO-EXAM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UIDADOS COM O CABEL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UIDADOS COM AS UNH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POSIÇÕES AMBIENTAIS OU OCUPACION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TRESS FISIOLÓGICO OU PSICOLÓG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COO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ROG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LE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FÍS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9960" y="1905120"/>
            <a:ext cx="455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SPECÇÃO : C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UNIFORM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PESS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MET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GIEN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ES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D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AÇÃO : HUM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XT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URGESC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OBI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UNHAS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FÍS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6280" y="1981080"/>
            <a:ext cx="504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SPECÇÃO : PIGMEN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MPRIMEN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MET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TER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UB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AÇÃO : EDE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UMORES,CISTOS ..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LOS 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FÍS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17280" y="2556000"/>
            <a:ext cx="430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SPECÇÃO : C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TRIBU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ANT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AÇÃO : TEXT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LE E ANEXO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9320" y="1717560"/>
            <a:ext cx="5426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TEC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TER FLUI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GULAÇÃO DA TEMPERAT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RCEPÇÃO SENSORI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DUÇÃO DE VIT. D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GULAÇÃO DA TENSÃO ARTERI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PARAÇÃO DE FERID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CRE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PRIMIR EMO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L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2720" y="2022480"/>
            <a:ext cx="5697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PIDERM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ERM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IPODERM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NEXOS : GLÂNDULAS SUDORÍPAR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  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GLÂNDULAS SEBÁCE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   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UNH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    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EL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L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1120" y="1870200"/>
            <a:ext cx="6511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TER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QUÊNCIA TEMPOR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CUTÂNE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CALIZ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POSIÇÃO A FÁRMACOS, TÓXICOS, SOL....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USA APAR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DE VIAG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DE ALÍVIO OU AGRAVAMEN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DAPTAÇÃO AO PROBLE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LE</a:t>
            </a:r>
            <a:br>
              <a:rPr sz="4400"/>
            </a:br>
            <a:r>
              <a:rPr b="0" lang="en-US" sz="3200" spc="-1" strike="noStrike">
                <a:solidFill>
                  <a:srgbClr val="061c62"/>
                </a:solidFill>
                <a:latin typeface="Times New Roman"/>
              </a:rPr>
              <a:t>CANCRO – FACTORES DE RISCO</a:t>
            </a:r>
            <a:endParaRPr b="0" lang="en-US" sz="32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3040" y="2286000"/>
            <a:ext cx="4853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R DA PEL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NDÊNCIA PARA QUEIM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PEREXPOSIÇÃO A TÓXI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CAL GEOGRÁF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FAMILI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UMATISMOS REPETI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RMATOSES PRÉCANCEROS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LO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7040" y="2666880"/>
            <a:ext cx="4051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TER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ODO DE APARECIMEN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POS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UTR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TITUDE DO DO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UNHA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9000" y="2438280"/>
            <a:ext cx="372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TER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QUÊNCIA TEMPOR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POS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TITUDE DO DO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LE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X MÉDICA PASSAD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20640" y="2666880"/>
            <a:ext cx="704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TERAÇÕES PRÉV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LERÂNCIA AO SO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MINUIÇÃO OU AUMENTO DA SENSIBI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ÇS CARDÍACAS, RESPIRATÓR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EPÁTICAS, ENDÓCRINAS OU SISTÉM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UNHAS E PELO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15240" y="2403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BLEMAS ANTERIO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BLEMAS SISTÉMI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TERAÇÕES CONGÉNIT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22:31:14Z</dcterms:created>
  <dc:creator>FRG</dc:creator>
  <dc:description/>
  <dc:language>en-US</dc:language>
  <cp:lastModifiedBy>FRG</cp:lastModifiedBy>
  <dcterms:modified xsi:type="dcterms:W3CDTF">2002-10-29T09:58:50Z</dcterms:modified>
  <cp:revision>1</cp:revision>
  <dc:subject/>
  <dc:title>SUGESTÃO</dc:title>
</cp:coreProperties>
</file>