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AE7-0936-4C05-A1A9-9ECB89F4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41D-942D-4EA5-A4C8-703ED6A4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124F-04EB-4C99-A4BA-CAF7C76F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5931-6E97-4B56-8CA5-CA2BB9DD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AB19-59D8-4F78-B8A6-262AE6D6A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CDB5-D239-400F-B5CB-20C777BB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37A0-A56F-4BF3-BC74-DC642B79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54AF-D1AB-4588-8E18-EE4EF494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326B-CCBE-4DBA-9FF9-52D6051B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DA0E-F0A1-4278-AB45-0CFE913F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51F2-F14E-4A80-B520-D6E68F74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690-15C5-4995-BAEF-DAEDF7B5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12A7-685C-44A6-9F55-EFE8F6D0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360-896F-4C3E-ABF1-1806B845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EFAB-D0C9-4107-8F74-E44AD220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8062-A04C-459B-AEC2-088974AD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7929-92F5-403A-8F97-3A9B74BB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747-36A9-4482-9059-972ED85C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9CB-F37C-43CC-A412-D820E606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937-4839-4108-B20F-FDE7C797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9CF-11DE-4A07-AD11-A0D6B559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615-8BB7-4222-835C-5FA0D9B0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28FD-3355-4E7E-A2D1-8E73D2B1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E33-8844-4A36-958A-E7F09347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D654-DFCF-42D0-9D8A-00F9803ADA9C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D5CC-491A-4695-B779-21D2A32EF409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56240" y="2479680"/>
            <a:ext cx="29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RIA JOÃO PI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RAD MELDHA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9080" y="2819520"/>
            <a:ext cx="358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E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 : PESCOÇ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XIL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GUIN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BEÇA E PESCOÇ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50840" y="179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81200" y="1905120"/>
            <a:ext cx="3454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 DA DOENÇA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RAUMATISM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EFALE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ORCÍCOL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IRÓI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BEÇA E PESCOÇ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9040" y="2590920"/>
            <a:ext cx="7549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UMATISMO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TO POR OBSERVADOR INDEPEND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TADO DE CONSCI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PREDISPONE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BEÇA E PESCOÇ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85200" y="1946160"/>
            <a:ext cx="494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EFALEIAS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ÍC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U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ÍST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DR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PRECIPITA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T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BEÇA E PESCOÇ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0200" y="2438280"/>
            <a:ext cx="550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RCÍCOLO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DE TRAUMAT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EBRE, DÇ VIRAL, BACTERIA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RACTERÍST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CTORES PREDISPONE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TAMEN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BEÇA E PESCOÇ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2400" y="1828800"/>
            <a:ext cx="751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RÓIDE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 NA TOLERÂNCIA À TEMPERA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UMEFACÇÃO DO PESCOÇ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 DA TEXTURA DAS UNH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 DA TEXTURA DOS CABE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 DA ESTABILIDADE EMO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OFTALM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 DE PE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AQUICARDIA, PALPIT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 DE FLUXO MENSTR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UDANÇA DE HÁBITOS INTESTIN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896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BEÇA E PESCOÇ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6480" y="2133720"/>
            <a:ext cx="418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NTECEDENTES PESSOAIS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RAUMAT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RADIOTERAP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EFALE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IRURG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ONVULS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SFUNÇÃO TIROÍDE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BEÇA E PESCOÇ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44200" y="1828800"/>
            <a:ext cx="4586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STÓRIA SOCIAL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FIS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TRES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ISCO DE TRAUMAT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UTRI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COO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ROG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STÓRIA FAMILIAR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EFALE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RÓI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BEÇA E PESCOÇ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61520" y="2098800"/>
            <a:ext cx="244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E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CUS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SCUL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LH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8" name="Eye001s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59436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8640" y="2666880"/>
            <a:ext cx="491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OVIMENTO DA LINF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DUÇÃO DE LINFÓC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DUÇÃO DE ANTICORP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GOCITO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BSORÇÃO DA GORD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DUÇÃO DE CEL. HEMÁT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LH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0" name="murray5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5791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4" name="node_p2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0356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6" name="neck_nodes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457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8" name="ax_nodes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381816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82440" y="2174760"/>
            <a:ext cx="408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ÂNGLIOS LINFÁT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INFÓC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AÇ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MIGDALAS E ADENÓI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LACAS DE PEY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05400" y="2098800"/>
            <a:ext cx="584424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EMORRAGIA: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LOCAL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                                         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CARACTERÍSTICA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                                         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DENOPATIAS: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CARACTERÍSTICA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FACTORES PREDISPONENTE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DEMAS DAS EXTREMIDADE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UNILATERAL, BILATERAL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                                            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FACTORES PREDISPONENTE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SINTOMAS ASSOCIADO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                                           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EFEITO DOS TRATAMENTO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EDICAMENTOS:</a:t>
            </a:r>
            <a:r>
              <a:rPr b="0" lang="en-US" sz="1600" spc="-1" strike="noStrike">
                <a:solidFill>
                  <a:srgbClr val="2d2525"/>
                </a:solidFill>
                <a:latin typeface="Times New Roman"/>
              </a:rPr>
              <a:t>QUIMIOTERAPIA, ANTIBIÓTICOS</a:t>
            </a:r>
            <a:endParaRPr b="0" lang="en-US" sz="1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8760" y="2514600"/>
            <a:ext cx="4457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TECEDENTES PESSOAIS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X TORÁC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ACÇÃO DE MANTOU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DE TRANSFUS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ÇS CRÓN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RURGIA, TRAU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FECÇÃO RECORR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STEMA LINFÁ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02840" y="2209680"/>
            <a:ext cx="4687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STÓRIA FAMILIAR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EOPLA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EM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FECÇÕES RECE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UBERCULO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POGAMAGLOBULINEM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EMOFIL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23:25:10Z</dcterms:created>
  <dc:creator>FRG</dc:creator>
  <dc:description/>
  <dc:language>en-US</dc:language>
  <cp:lastModifiedBy>FRG</cp:lastModifiedBy>
  <dcterms:modified xsi:type="dcterms:W3CDTF">2001-10-30T09:45:15Z</dcterms:modified>
  <cp:revision>2</cp:revision>
  <dc:subject/>
  <dc:title>SISTEMA LINFÁTICO</dc:title>
</cp:coreProperties>
</file>