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2B8F-21E4-4C83-A7EE-53C10E18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CD2-D75D-458B-8335-08B2FC88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068F-2BF2-4C60-88C4-C94DF518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0EA-5423-4ED0-BB25-EDB5F443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622F-CD07-4845-9226-24333268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DAD8-AE04-4095-9B22-34228DEE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D0C-9DC1-41D0-BD9E-8B0B309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A85D-6EE0-47F9-AFAF-014DE16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1D8F-4253-4681-8B36-99A1C586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5358-614A-47B4-813C-4B4240D9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2028-373F-4122-A1AA-D3250DA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50AA-0BD5-44E7-8A3C-EF3C3380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3ED2-5BFE-4453-9A1A-39CA22AB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8551-ED7A-4FDF-B0AD-3D32014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E4C3-13CD-4C16-ABFC-79C0E1F1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32F4-0DD4-40B4-BA46-82A1446B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EC8E-7089-465C-BADE-BC1C7811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4458-55C7-4646-B910-6CCBA94C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56A-7154-4D88-8FEA-DC00EDEB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10C-15DD-4ED7-B7AE-202DD9C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B91-EF83-4245-B0E3-DE7B3ADB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0FC-0BB8-4E8A-99D6-E4ABA994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38A-3D51-4470-9FA2-DCF9A920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783C-7143-414C-AD33-E448535B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7F25-4A6E-4111-9BE3-C8D54B93B7A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3B55-1FA9-4A52-97DD-96654E96226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59480" y="2479680"/>
            <a:ext cx="4405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00 QUADROS PORTUGUE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 SÉCULO X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JOSÉ-AUGUSTO FRAN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2480" y="5146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83160" y="2022480"/>
            <a:ext cx="6633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 PARA CANCR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ADE (80% APÓS OS 50 ANOS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PESSOAL, HX FAMILI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IÓPSIA ANTERIOR (HIPERPLASIA ATÍPICA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TAÇÃO GENÉTICA (BRCA1, BRCA2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NSIDADE TECIDULAR NA MAMOGRA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ARCA PRECOC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OPAUSA TARD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ULIPAR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1 APÓS 30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H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8640" y="1870200"/>
            <a:ext cx="6104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 PARA DÇ BENIGNA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ARCA PRECOC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OPAUSA TARD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ULIPAR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1 APÓS 30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ÌVEL SOCIO-ECONÓMICO AL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FEÌ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1400" y="1793880"/>
            <a:ext cx="5517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ASTREIO DE CANCR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TO-EXAME MENS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MÉDICO ANUAL &gt;40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 3 EM 3 ANOS &lt;40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MOGRA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ISCO MÉDIO :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&gt;50 ANOS ANUALM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40 – 49  DE 2 EM 2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ISCO ELEVAD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ICIAR AOS 35 AN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440" y="1870200"/>
            <a:ext cx="475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MILO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NEMÓNICA DOS 5 D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PRE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COLO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.  DERMATOG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V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1120" y="1946160"/>
            <a:ext cx="368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SSA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MANH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SIST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OR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T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1400" y="2098800"/>
            <a:ext cx="498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M 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M CÍRCU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AD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LONGAMENTO AXIL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ÂNGLIOS LINFÁT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0680" y="1870200"/>
            <a:ext cx="423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 FIBROCÍS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IBROADENO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EOPL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PILOMAS INTRADUCT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 DE PAGET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INECOMAST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S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ALACTORR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89520" y="2784600"/>
            <a:ext cx="504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UILHERMINA SUGG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FESSOR ÁLVARO RODRIGU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88800" y="2479680"/>
            <a:ext cx="530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REDE TORÁC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ARELHO RESPIRATÓ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ARELHO CARDIOCIRCULATÓ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AST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59120" y="2022480"/>
            <a:ext cx="544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NÚBRIO, ESTERNO, AP. XIFÓI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LAVÍCUL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STELAS, ESPAÇOS INTERCOST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MI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NHAS AXI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TEB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ONTOS DE VALE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1560" y="1981080"/>
            <a:ext cx="774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 ACTUAL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AÇÃO DE DESCONFORT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QUÊNCIA TEMPORAL: INI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RADUAL OU SÚBITO, HÁ QUA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MPO, SEMPRE PRESENTE, VAI-V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OM O PERÍODO MENSTR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TIPO DE DOR, LOCAL, RAD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NI OU BILATE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MASSAS, DESCAR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AGRAV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79440" y="347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989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59840" y="1946160"/>
            <a:ext cx="6258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SSAS OU NÓDULO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QUÊNCIA TEMPORAL: HÁ QUANTO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MPO, SEMPRE PRESENTE, VAI-V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OM PERÍODO MENSTR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: DOR, MOD. DO CONTOR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T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DIFICAÇÕES: TAMANHO, CARACT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DESCARG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ANGLIOS LINFÁT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320" y="2133720"/>
            <a:ext cx="804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CARGA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: INICIO SÚBITO OU GRAD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URAÇÃO, COR, CONSISTÊNCIA, O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ANT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MASSAS, GANGL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NFÁT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ASSOCIADOS: TRAUMA, MENSTRU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8680" y="1981080"/>
            <a:ext cx="758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TECEDENTES PESSOAI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 PRÉVIA: CANCRO, ADENO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. FIBROCÍS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RURGIAS: BIÓPSIAS, ASPIRAÇÕES, IMPL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ÁSTICAS, OOFORECTOM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MENSTR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RAVIDE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AC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 (ESPECIAL/ HORMONAIS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5000" y="2590920"/>
            <a:ext cx="46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TECEDENTES FAMILIARE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NC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UTRAS DOENÇAS DA MA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A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64400" y="1870200"/>
            <a:ext cx="554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PESSOAL E SOCIAL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DIF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OM MENSTRU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ATA DO 1º DIA DO ÚLTIMO CIC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OPAU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O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TO-EXA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MOGRA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2:39:44Z</dcterms:created>
  <dc:creator>FRG</dc:creator>
  <dc:description/>
  <dc:language>en-US</dc:language>
  <cp:lastModifiedBy>FRG</cp:lastModifiedBy>
  <dcterms:modified xsi:type="dcterms:W3CDTF">2001-11-05T23:59:27Z</dcterms:modified>
  <cp:revision>1</cp:revision>
  <dc:subject/>
  <dc:title>SUGESTÃO</dc:title>
</cp:coreProperties>
</file>