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B3A-38DD-4B7D-A724-B1A8EE7A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7ADA-2A73-4159-8530-8353A40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643-4E5A-4C6B-9192-516001A7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85F-66AA-44D1-B509-1462AF89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317F-CF04-47EC-B8BE-3E091080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E4CA-D3E4-43E3-88D3-1D2EA695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4219-A030-4E95-94BF-06326696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0D93-285A-4C05-8147-AE634E21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BEFB-BBBC-479E-84E8-5EE25B87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82AD-3D50-48B1-8594-6E03C25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4ABD-E841-4303-9A05-88BC52F5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E1E-8A0A-4DBF-91AB-E3859F17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5FAF-25AB-4514-B2F8-A93CCE0A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2DFD-2F60-4975-8E45-7B13F596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23DC-82C5-4A08-BEC1-29E02E27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AA75-7F98-49F6-BA1A-73172DBB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9A59-D2D5-48B9-B2E0-12464B3F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385-836E-4169-AC99-4A6691C1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67B-FC2F-47AF-80F6-3E312EB5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E26C-942E-4213-97C9-E9E3792D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712-8138-46A8-AD16-7F359A6D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D4C-9629-418A-977C-69C0077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F0F1-C583-4E09-A905-122D89F4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035-841F-4EDE-8DDF-96E79B8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4EBE-1162-45A3-A351-316D0D8E526D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B89A-7435-4694-91DB-D816B7014E2F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88040" y="3352680"/>
            <a:ext cx="33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Livro do estudante Seide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erence Blanchard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SPEC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9240" y="2251080"/>
            <a:ext cx="328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MET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FORM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CATRIZ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IFO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COLIO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RAX EM TONE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RAX EM SIN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R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CTUS ESCAVATU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55880" y="2251080"/>
            <a:ext cx="290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EQU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GULAR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FUND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ANSI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ICUL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PERFIC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FRAGMÁT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81720" y="1870200"/>
            <a:ext cx="6407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RMAL: 12-20/MI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RADIPNEIA: &lt; 12/MI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AQUIPNEIA: &gt;20/MI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ERPNEIA: TAQUIPNEIA C/ AMPLITUDE &gt;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SPIRA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KUSSM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HEYNE-STOK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TÁX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37240" y="2098800"/>
            <a:ext cx="542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TO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SPNEIA PAROXÍSTICA NOCTUR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LATY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PN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ALP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4720" y="2327400"/>
            <a:ext cx="461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ANSI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MET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EPITAÇÕES SUB-CUTÂNE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ÉM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NSIBIL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4560" y="2057400"/>
            <a:ext cx="414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PARELHO RESPIRATÓRI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ARING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QUE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RONQUI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ULM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54760" y="2438280"/>
            <a:ext cx="524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STÓRIA CLÍNICA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S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FICULDADE RESPIRATÓ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R TORÁC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SS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8520" y="2438280"/>
            <a:ext cx="7555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INÍCIO: SÚBITO,GRADUAL,DURAÇÃ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NATUREZA: SECA,IRRITATIVA,PRODUTIVA, NÃO-PRODUTIVA...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EXPECTORAÇÃO:DURAÇÃO,FREQUÊNCIA, FACT.DESENCADEANTE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EXPECTORAÇÃO: QUANTIDADE,COR,CHEIR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PADRÃO: OCASIONAL,PAROXÍSTICA, CONSTANTE.....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SEVERIDADE:CANSAÇO,SONO,DOR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SINTOMAS ASSOCIADOS:DOR,FEBRE,CORIZA,DIFICULDADE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RESPIRATÓRIA,TIRAGEM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TERAPÊUTICA PRESCRITA E NÃO-PRESCRITA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IFICULDADE RESPIRATÓRI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7200" y="2174760"/>
            <a:ext cx="635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ÍCIO: SÚBITO, GRADUAL, DU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DRÃO: POSIÇÃO MAIS CONFORTÁVE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ÚMERO DE ALMOFAD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AÇÃO COM EXERCÍC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M REFEI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ORA DO D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IRATÓRIA,EXPIRATÓ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VERIDADE:LIMITAÇÃO DA ACTIVI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: DOR, TOS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EBRE, SUDORESE, EDE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OR TORÁC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1640" y="2327400"/>
            <a:ext cx="672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ÍCIO E DURAÇÃO :TRAUMA, TOS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F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NTOMAS ASSOCIADOS: FEBRE, ANSIEDA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RRADIAÇÃO DA D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TAMENTOS, MEDIC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TECEDENTES PESSOAI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5800" y="2438280"/>
            <a:ext cx="722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UMA, HOSPITALIZAÇÕES, DAT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SO DE OXIGÉN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ÇAS PULMONARES CRÓNICA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UBERCULOSE, BRONQUITE, EMFISE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MA, FIBROSE CÍSTICA, BRONQUIECTAS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UTRAS DOENÇAS : CARDÍACAS, NEOPLAS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STES: ALERGIAS, TESTES DE F. RESPIRATÓ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X ANTIG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NTECEDENTES FAMILIA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4600" y="2743200"/>
            <a:ext cx="585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UBERCULOS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IBROSE CÍST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MFISE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ERGIA, ASMA, DERMATITE ATÓP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EOPLASI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STÓRIA SOCI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30040" y="2095560"/>
            <a:ext cx="2984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PROFISSÃ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AMBIENTE DE CASA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TABAC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EXPOSIÇÃO A INFECÇÕE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ESTADO NUTRICIONAL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VIAGEN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HOBBIE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ALCOOL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DROGAS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EXERCÍCI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Times New Roman"/>
              </a:rPr>
              <a:t>DESPORTO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23:47:47Z</dcterms:created>
  <dc:creator>FRG</dc:creator>
  <dc:description/>
  <dc:language>en-US</dc:language>
  <cp:lastModifiedBy>FRG</cp:lastModifiedBy>
  <dcterms:modified xsi:type="dcterms:W3CDTF">2002-11-18T23:13:19Z</dcterms:modified>
  <cp:revision>2</cp:revision>
  <dc:subject/>
  <dc:title>SUGESTÃO</dc:title>
</cp:coreProperties>
</file>