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79D-C818-4F6B-9B22-6BB73EAB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375-D50D-4773-B311-6657B655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5FA-03BE-4062-97A1-ED4B38FA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865-9539-4D2A-87BB-B4E48F45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699E-FB3E-4C96-850F-7A4439C5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8C17-8D59-42CB-BB12-DEC2A573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66D0-7F5A-4415-B0C5-9417DD55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D94C-09F0-4733-8748-D17E4E84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6FF7-B02B-4ED3-AC20-27AFB42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D870-C39D-4D93-9FE2-BA09D9EC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412-71B3-4EFB-AF18-23CDF5ED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402-062B-4D38-AF9A-FA34C4C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468-A3E2-4ED1-B0BE-8384433A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E4AF-669C-4240-B590-0E0D7F73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998-B957-4A4A-A7F0-CD898A41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EAC6-7045-4ACB-A2DF-F10A0593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3B34-7C2E-44A3-8ADC-C885F0B4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8CE-41D5-450F-8FBE-77F21C4B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F15-A01F-4064-AFE1-32D1F2A4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E2F-730D-4E21-83C5-1C1FD37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8D7B-3AC3-410B-922E-FBA1279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3A3-A313-4AA4-9E31-A5ACEDB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54A9-A817-40C6-A2A3-A07B90B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43F-DB66-4BB1-A4E4-4EA500D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59E8-4753-4F19-B6F9-C25FF9B8EED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E7AE-65F6-4B8F-A602-BDC125089E92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7200" y="255600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NUSCRITOS DO MAR MOR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 E PULM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022480"/>
            <a:ext cx="3112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S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ELECT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ONQUIECTAS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ONQUIT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P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MFISE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ERRAME PLEUR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NEUMON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NEUMOTORAX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ANCR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4720" y="2251080"/>
            <a:ext cx="4542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USS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ÉCNIC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MPANIS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MACICEZ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HIPERRESSONÂ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URVA DE DAMOISEAU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15960" y="2251080"/>
            <a:ext cx="587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DIAFRAGMA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NORMAIS: VESICUL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ONCOVESICULA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RAQUEOBRONQUIC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7080" y="2174760"/>
            <a:ext cx="329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PATOLÓGICOS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PIT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ON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BIL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TR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SPIRAÇ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87000" y="2251080"/>
            <a:ext cx="549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SONÂNCIA VOCAL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BRONCOFON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CTORILOQUIA ÁFON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GOFON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PAGAMENT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 E PULM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7880" y="2251080"/>
            <a:ext cx="538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INSPEC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AMANHO E FORM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OR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DE VENOS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EMINÊNCIA DAS COSTELA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 E PULM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79200" y="2479680"/>
            <a:ext cx="264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PIR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EQUÊNC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ITM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DR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IRAGEM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 E PULM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2479680"/>
            <a:ext cx="3038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ALP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METR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XPAN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ULSATILIDAD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PITAÇÕE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ÉM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ERCUSS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RAX E PULMÕ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0680" y="2174760"/>
            <a:ext cx="4347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USCULTAÇÃO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NORM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NS PATOLÓGIC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ESSONÃNCIA VOCAL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2:54:17Z</dcterms:created>
  <dc:creator>FRG</dc:creator>
  <dc:description/>
  <dc:language>en-US</dc:language>
  <cp:lastModifiedBy>FRG</cp:lastModifiedBy>
  <dcterms:modified xsi:type="dcterms:W3CDTF">2001-11-19T23:32:31Z</dcterms:modified>
  <cp:revision>1</cp:revision>
  <dc:subject/>
  <dc:title>SUGESTÃO</dc:title>
</cp:coreProperties>
</file>