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873-7153-429C-BAC7-57B670E2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844-2479-430B-B651-716D2D6F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15F3-8A84-4D23-82BE-7D8FD560E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57CA-0C0C-492B-A81E-3C2DBCA6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05C-A1FB-45AB-BA21-60AB41CF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4F74-F5A6-4B6E-B388-AF69DE43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EAB0-EBB7-427C-AAD4-70028A4E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68EC-CFF3-4F08-9DA4-6AC53F18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A360-4960-4C13-9DE4-2021E284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C611-A271-4C55-BEEA-EA05D88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DA92-86B6-444C-B8D7-AB1746A1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4DE8-65C0-4360-9F53-7D6B3C5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B090-6BA2-49E0-A211-F50264D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B179-A750-4EA4-9926-3EF5445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CA4-6896-4E29-9C1A-B89A396C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B9E7-B1EC-40B6-93BE-F1D91EE4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C158-E6B3-46F7-9478-D3010B9F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B6C-2E38-4AF1-962E-E19BF3DB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C080-6A50-48D8-8570-1CE5D7A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744F-47A1-4249-BF90-56171CC3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6BE-89C2-407E-8775-578C4A4A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933-F93C-4E2F-B0A3-67D67BC7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5FAB-9A20-4490-84C3-82B9AD4E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CD06-271E-4A6D-96FC-4C13875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D4BB-709B-458F-9BBF-BAFAEAE9E6AA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9F0-8320-49E5-9C4E-EA93CD67111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6120" y="232740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BUQUERQUE MEN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2403360"/>
            <a:ext cx="34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VISÃO ANATÓM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VISÃO FISIOLÓG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2040" y="2479680"/>
            <a:ext cx="27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CLO CARDÍA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ÍSTO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STO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ULS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80" y="2666880"/>
            <a:ext cx="6639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OLUME DE SANGUE EJECTADO (STROKE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TENSIBILIDADE DA AORTA E G.V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ISCOSIDADE DO SANGU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LOCIDADE DE ESVAZI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ISTENCIAS ARTERIOLARES PERIFÉR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ULSO VENOSO JUGULA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60440" y="2784600"/>
            <a:ext cx="135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A 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A 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A V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A 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A 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6T22:20:55Z</dcterms:created>
  <dc:creator>FRG</dc:creator>
  <dc:description/>
  <dc:language>en-US</dc:language>
  <cp:lastModifiedBy>FRG</cp:lastModifiedBy>
  <dcterms:modified xsi:type="dcterms:W3CDTF">2002-12-02T21:55:46Z</dcterms:modified>
  <cp:revision>2</cp:revision>
  <dc:subject/>
  <dc:title>SUGESTÃO</dc:title>
</cp:coreProperties>
</file>