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39E-DC0E-4B83-91CE-C1824A39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DCF-86DE-44FC-B613-3B4C966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829-93DB-43D7-B1BD-EF388EC2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61C8-59B6-4D15-9BD6-C01D1B34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2DDE-6FB9-4528-89C0-D224632C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4496-4FF4-42B3-A160-5FA9358C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E176-D68D-46EC-8788-7A5EADA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A2C7-BA01-436A-A635-2760169E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4D8C-D59F-43AC-A488-AC67BF90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63E2-F6C0-42CB-9910-E821E61F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D7DA-BB5A-4154-8585-59B82CA0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1C5-8920-4C45-B41D-E360C258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4B54-B391-4A64-8A79-0495ECF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2B4A-4CA7-4852-B13F-5BDAE1F8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2F04-CA48-49E7-9605-60915B2F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344A-EE60-464C-A64E-5165D387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78CA-ACD2-42CF-8E6D-446D52CA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B7A-E067-4AF7-82AB-EF14FAA8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5F7-8E6B-45D3-B29C-17CED29F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D89E-ECBB-47E3-9E3B-3091FC62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A9B-61DC-4AFB-AADE-FC219BD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525-2166-4E51-84F0-1588C42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852-A4E1-48B1-BCAF-D2C0B4C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0F0-13E7-4200-A171-C5499326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/>
                <a:ahLst/>
                <a:rect l="l" t="t" r="r" b="b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/>
                <a:ahLst/>
                <a:rect l="l" t="t" r="r" b="b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/>
                <a:ahLst/>
                <a:rect l="l" t="t" r="r" b="b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/>
                <a:ahLst/>
                <a:rect l="l" t="t" r="r" b="b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E340-C582-4A58-AD75-F85FDB67E3B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cccc"/>
                </a:gs>
                <a:gs pos="50000">
                  <a:srgbClr val="000000"/>
                </a:gs>
                <a:gs pos="100000">
                  <a:srgbClr val="00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00ffcc"/>
            </a:solidFill>
            <a:ln w="1260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/>
                <a:ahLst/>
                <a:rect l="l" t="t" r="r" b="b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/>
                <a:ahLst/>
                <a:rect l="l" t="t" r="r" b="b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/>
                <a:ahLst/>
                <a:rect l="l" t="t" r="r" b="b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A826-D7D1-4B50-BA1D-7DE234A17FED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inst03.wav" TargetMode="External"/><Relationship Id="rId2" Type="http://schemas.microsoft.com/office/2007/relationships/media" Target="file:///tmp/home/.config/libreoffice/4/user/gallery/inst03.wav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828800" y="1752480"/>
            <a:ext cx="5410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©1998 by David F. Underwood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airview, WV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funderw@access.k12.wv.u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Use of this presentation is granted for educational and personal use as long as this copyright notice remains intact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uthor of the poem: anonymou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83808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Volume Adjustment</a:t>
            </a:r>
            <a:endParaRPr b="0" lang="en-US" sz="4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9360" y="350532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73120" y="40132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1371600" y="54100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9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9" y="20200"/>
                </a:lnTo>
                <a:lnTo>
                  <a:pt x="58999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9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6324480" y="5410080"/>
            <a:ext cx="1067040" cy="38124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419" h="21600">
                <a:moveTo>
                  <a:pt x="0" y="0"/>
                </a:moveTo>
                <a:lnTo>
                  <a:pt x="60419" y="0"/>
                </a:lnTo>
                <a:lnTo>
                  <a:pt x="60419" y="21600"/>
                </a:lnTo>
                <a:lnTo>
                  <a:pt x="0" y="21600"/>
                </a:lnTo>
                <a:close/>
              </a:path>
              <a:path fill="lightenLess" w="60419" h="21600">
                <a:moveTo>
                  <a:pt x="0" y="0"/>
                </a:moveTo>
                <a:lnTo>
                  <a:pt x="60419" y="0"/>
                </a:lnTo>
                <a:lnTo>
                  <a:pt x="59019" y="1400"/>
                </a:lnTo>
                <a:lnTo>
                  <a:pt x="1400" y="1400"/>
                </a:lnTo>
                <a:close/>
              </a:path>
              <a:path fill="darken" w="60419" h="21600">
                <a:moveTo>
                  <a:pt x="60419" y="0"/>
                </a:moveTo>
                <a:lnTo>
                  <a:pt x="60419" y="21600"/>
                </a:lnTo>
                <a:lnTo>
                  <a:pt x="59019" y="20200"/>
                </a:lnTo>
                <a:lnTo>
                  <a:pt x="59019" y="1400"/>
                </a:lnTo>
                <a:close/>
              </a:path>
              <a:path fill="darkenLess" w="60419" h="21600">
                <a:moveTo>
                  <a:pt x="60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19" y="20200"/>
                </a:lnTo>
                <a:close/>
              </a:path>
              <a:path fill="lighten" w="60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23623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Adjust the midi and wave volum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30369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Until you can hear both clearly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50880" y="17794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Open your sound mixer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96880" y="3643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BACK to try again, or NEXT to continue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1981080"/>
            <a:ext cx="670536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/>
                  </a:outerShdw>
                </a:effectLst>
                <a:latin typeface="Impact"/>
              </a:rPr>
              <a:t>What if Dr. Seuss wrot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07932" dir="2700000" blurRad="0" rotWithShape="0">
                    <a:srgbClr val="990000"/>
                  </a:outerShdw>
                </a:effectLst>
                <a:latin typeface="Impact"/>
              </a:rPr>
              <a:t>Computer Tech Manuals?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07932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1752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f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hits a pocket o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ock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on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rt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3623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s interrupted as a very last resort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9718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ddress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of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mor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makes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loppy disk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or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962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n the socke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cke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ocket has a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to report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16765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f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ursor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finds 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nu it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followed by a dash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096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ouble-clicking icon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put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ash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200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rrupted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‘cause the index doesn’t hash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733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n your situation’s hopeless, and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’s gonn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ash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advTm="12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14400" y="1523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If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on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bl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on the gable at your house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286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ay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etwor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s connected to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to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on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us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200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But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ket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want to tunnel to anothe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otocol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3962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at’s repeatedly rejected by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rinter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down the hall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12193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reen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s all distorted by the side effects of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aus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cons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n the window are as wavy as a souse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3124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n you may as well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boot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nd make it go out with a bang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426708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Cause as sure as I’m a poet, this contraption’s gonn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ng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advTm="12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5280" y="152388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When the </a:t>
            </a:r>
            <a:r>
              <a:rPr b="1" lang="en-US" sz="2400" spc="-1" strike="noStrike">
                <a:solidFill>
                  <a:srgbClr val="dddddd"/>
                </a:solidFill>
                <a:latin typeface="Times New Roman"/>
              </a:rPr>
              <a:t>cop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of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loppy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’s getting sloppy o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k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251460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nd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icrocode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instructions cause unnecessa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ISC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3581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en your have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lash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your memory and you’ll want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A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OM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4648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Quickly turn off your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puter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 and be sure to tell your mom!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advTm="1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630520" y="8380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p:transition advTm="7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00:32:22Z</dcterms:created>
  <dc:creator>David Underwood</dc:creator>
  <dc:description/>
  <dc:language>en-US</dc:language>
  <cp:lastModifiedBy>Charlie Pitrolo</cp:lastModifiedBy>
  <dcterms:modified xsi:type="dcterms:W3CDTF">1998-08-03T04:26:16Z</dcterms:modified>
  <cp:revision>14</cp:revision>
  <dc:subject/>
  <dc:title>No Slide Title</dc:title>
</cp:coreProperties>
</file>